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295280" y="1600200"/>
            <a:ext cx="5028840" cy="3657240"/>
            <a:chOff x="1295280" y="1600200"/>
            <a:chExt cx="5028840" cy="3657240"/>
          </a:xfrm>
        </p:grpSpPr>
        <p:sp>
          <p:nvSpPr>
            <p:cNvPr id="215" name="Rectangle 5"/>
            <p:cNvSpPr/>
            <p:nvPr/>
          </p:nvSpPr>
          <p:spPr>
            <a:xfrm>
              <a:off x="1415880" y="1721880"/>
              <a:ext cx="4908240" cy="3535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295280" y="1600200"/>
              <a:ext cx="4908240" cy="35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240" y="1676520"/>
            <a:ext cx="4876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move the slide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355760" y="5734080"/>
            <a:ext cx="435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473120" y="167652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0071"/>
                </a:solidFill>
                <a:latin typeface="Book Antiqua"/>
              </a:rPr>
              <a:t>Here’s what the links are: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0071"/>
                </a:solidFill>
                <a:latin typeface="Book Antiqua"/>
              </a:rPr>
              <a:t>The Nation’s Report Card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0071"/>
                </a:solidFill>
                <a:latin typeface="Book Antiqua"/>
              </a:rPr>
              <a:t>http://nces.ed.gov/nationsreportcard/subject/publications/stt2015/pdf/2016008TX4.pdf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c0071"/>
                </a:solidFill>
                <a:uFillTx/>
                <a:latin typeface="Book Antiqua"/>
              </a:rPr>
              <a:t>STAAR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c0071"/>
                </a:solidFill>
                <a:uFillTx/>
                <a:latin typeface="Book Antiqua"/>
              </a:rPr>
              <a:t>http://tea.texas.gov/Student_Testing_and_Accountability/Testing/State_of_Texas_Assessments_of_Academic_Readiness_(STAAR)/STAAR_Statewide_Summary_Reports_2014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-2015/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76D-8FF2-42DC-B053-7FD4268B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CEB-B576-4643-9A76-9AD56F96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619-066A-440C-B551-A69E58E7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3FC-BDB3-4190-AA50-378512A5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C3B-0B83-4272-88F8-00FE0FF8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A13-BDD0-4E18-8DF6-8BF8C8D1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053-68C2-464F-9484-D61A2D4A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C83-7009-4BE5-83AE-16084622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C84-36CC-411E-BFFA-959AA5A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1CC-79DF-4C7C-A3F2-C159E399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D6D-824B-44AC-B6D4-B77F4ADE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B93-E5DA-4F4B-B244-8AAAC6B8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526E-8B42-4E40-B9C4-413E9FED6853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3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" name="Text Box 111"/>
          <p:cNvSpPr/>
          <p:nvPr/>
        </p:nvSpPr>
        <p:spPr>
          <a:xfrm>
            <a:off x="243000" y="66117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Overview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296F-FA04-4DA2-9AAD-0E3E4F310200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2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3" name="Text Box 111"/>
          <p:cNvSpPr/>
          <p:nvPr/>
        </p:nvSpPr>
        <p:spPr>
          <a:xfrm>
            <a:off x="243000" y="66117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Overview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44" name="Picture 6" descr="1M1_titl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6CCD-2AFF-4D4D-A120-4EA7E4BA8D55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4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5" name="Text Box 111"/>
          <p:cNvSpPr/>
          <p:nvPr/>
        </p:nvSpPr>
        <p:spPr>
          <a:xfrm>
            <a:off x="243000" y="66117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Overview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86" name="Picture 6" descr="0_thrulin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90D8-239D-4C44-98A7-FEAA51B7D452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8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9" name="Text Box 111"/>
          <p:cNvSpPr/>
          <p:nvPr/>
        </p:nvSpPr>
        <p:spPr>
          <a:xfrm>
            <a:off x="246240" y="6611760"/>
            <a:ext cx="21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KTLA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C838-36ED-4EA0-8C25-6AC33B6ACC0B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29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0" name="Text Box 111"/>
          <p:cNvSpPr/>
          <p:nvPr/>
        </p:nvSpPr>
        <p:spPr>
          <a:xfrm>
            <a:off x="243000" y="66117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Overview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64AB-8BAF-4B2C-B0F7-7ABFA1B1FC09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0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1" name="Text Box 111"/>
          <p:cNvSpPr/>
          <p:nvPr/>
        </p:nvSpPr>
        <p:spPr>
          <a:xfrm>
            <a:off x="243000" y="66117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Overview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B4BB-C82F-419F-8454-4AC8458E8105}" type="slidenum"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254160" y="217440"/>
            <a:ext cx="8386560" cy="105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3838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82760" y="1071720"/>
            <a:ext cx="824544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627120" indent="-39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c007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712800" y="0"/>
            <a:ext cx="7772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Academy Resource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f2476"/>
                </a:solidFill>
                <a:latin typeface="Tahoma"/>
              </a:rPr>
              <a:t>Learning to Read and Write: Developmentally Appropriate Practices for Young Children 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(International Reading Association and National Association for the Education of Young Children)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f2476"/>
                </a:solidFill>
                <a:latin typeface="Tahoma"/>
              </a:rPr>
              <a:t>Improving Schooling for Language-Minority Children: </a:t>
            </a:r>
            <a:br>
              <a:rPr sz="2000"/>
            </a:br>
            <a:r>
              <a:rPr b="1" i="1" lang="en-US" sz="2000" spc="-1" strike="noStrike">
                <a:solidFill>
                  <a:srgbClr val="bf2476"/>
                </a:solidFill>
                <a:latin typeface="Tahoma"/>
              </a:rPr>
              <a:t>A Research Agenda 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(National Research Council)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f2476"/>
                </a:solidFill>
                <a:latin typeface="Tahoma"/>
              </a:rPr>
              <a:t>English and Spanish Language Arts and Reading Texas Essential Knowledge and Skills Handbook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f2476"/>
                </a:solidFill>
                <a:latin typeface="Tahoma"/>
              </a:rPr>
              <a:t>Revised Texas Prekindergarten Guidelines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 (updated 2015)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f2476"/>
                </a:solidFill>
                <a:latin typeface="Tahoma"/>
              </a:rPr>
              <a:t>Beginning Reading Instruction: Components of a Research-Based Reading Program 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f2476"/>
                </a:solidFill>
                <a:latin typeface="Tahoma"/>
              </a:rPr>
              <a:t>The Dyslexia Handbook—Revised 2014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55" name="Picture 8" descr="NotebookIcon.png"/>
          <p:cNvPicPr/>
          <p:nvPr/>
        </p:nvPicPr>
        <p:blipFill>
          <a:blip r:embed="rId1"/>
          <a:stretch/>
        </p:blipFill>
        <p:spPr>
          <a:xfrm>
            <a:off x="8442360" y="646200"/>
            <a:ext cx="79380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d486"/>
                </a:solidFill>
                <a:latin typeface="Hoefler Text"/>
              </a:rPr>
              <a:t>Texas Essential Knowledge and Skills</a:t>
            </a:r>
            <a:endParaRPr b="1" lang="en-US" sz="30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Organization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trand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agline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tudent expectation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58" name="Picture 8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NotebookIcon.png"/>
          <p:cNvPicPr/>
          <p:nvPr/>
        </p:nvPicPr>
        <p:blipFill>
          <a:blip r:embed="rId2"/>
          <a:stretch/>
        </p:blipFill>
        <p:spPr>
          <a:xfrm>
            <a:off x="8442360" y="1292400"/>
            <a:ext cx="79380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Prekindergarten Guideline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Organization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Domains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kill area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5c0071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62" name="AutoShape 24"/>
          <p:cNvSpPr/>
          <p:nvPr/>
        </p:nvSpPr>
        <p:spPr>
          <a:xfrm>
            <a:off x="709560" y="4765680"/>
            <a:ext cx="7772400" cy="1411200"/>
          </a:xfrm>
          <a:prstGeom prst="roundRect">
            <a:avLst>
              <a:gd name="adj" fmla="val 16667"/>
            </a:avLst>
          </a:prstGeom>
          <a:solidFill>
            <a:srgbClr val="2e8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4832280"/>
            <a:ext cx="7481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Use the Prekindergarten Guidelines </a:t>
            </a:r>
            <a:br>
              <a:rPr sz="2400"/>
            </a:br>
            <a:r>
              <a:rPr b="1" lang="en-US" sz="2400" spc="-1" strike="noStrike">
                <a:solidFill>
                  <a:srgbClr val="fdd486"/>
                </a:solidFill>
                <a:latin typeface="Hoefler Text"/>
                <a:ea typeface="Hoefler Text"/>
              </a:rPr>
              <a:t>and Handout 1 to compare TEKS student expectations and prekindergarten skill areas.</a:t>
            </a:r>
            <a:endParaRPr b="0" lang="en-US" sz="24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64" name="Picture 8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NotebookIcon.png"/>
          <p:cNvPicPr/>
          <p:nvPr/>
        </p:nvPicPr>
        <p:blipFill>
          <a:blip r:embed="rId3"/>
          <a:stretch/>
        </p:blipFill>
        <p:spPr>
          <a:xfrm>
            <a:off x="8442360" y="1292400"/>
            <a:ext cx="793800" cy="933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Handout.png"/>
          <p:cNvPicPr/>
          <p:nvPr/>
        </p:nvPicPr>
        <p:blipFill>
          <a:blip r:embed="rId4"/>
          <a:stretch/>
        </p:blipFill>
        <p:spPr>
          <a:xfrm>
            <a:off x="8513640" y="2225520"/>
            <a:ext cx="500040" cy="72252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Beginning Reading Instruction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kim </a:t>
            </a:r>
            <a:r>
              <a:rPr b="1" i="1" lang="en-US" sz="2800" spc="-1" strike="noStrike">
                <a:solidFill>
                  <a:srgbClr val="bf2476"/>
                </a:solidFill>
                <a:latin typeface="Tahoma"/>
              </a:rPr>
              <a:t>Beginning Reading Instruction: Components and Features of a Research-Based Reading Program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atch its components to the ELAR TEKS taglines on Handout 1 (also found in the TEKS Handbook). Write your answers on Handout 3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69" name="Picture 6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NotebookIcon.png"/>
          <p:cNvPicPr/>
          <p:nvPr/>
        </p:nvPicPr>
        <p:blipFill>
          <a:blip r:embed="rId2"/>
          <a:stretch/>
        </p:blipFill>
        <p:spPr>
          <a:xfrm>
            <a:off x="8442360" y="1292400"/>
            <a:ext cx="793800" cy="933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Handout.png"/>
          <p:cNvPicPr/>
          <p:nvPr/>
        </p:nvPicPr>
        <p:blipFill>
          <a:blip r:embed="rId3"/>
          <a:stretch/>
        </p:blipFill>
        <p:spPr>
          <a:xfrm>
            <a:off x="8513640" y="2225520"/>
            <a:ext cx="500040" cy="72252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 flipH="1">
            <a:off x="-401760" y="4038480"/>
            <a:ext cx="8917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First Grade Literacy Achievement Academy</a:t>
            </a:r>
            <a:endParaRPr b="1" lang="en-US" sz="28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e goal of this Academy is to enhance your knowledge of effective instructional practices that promote early reading and writing succes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e will examine research-based practices for teaching all children to read, including English language learners and those who have difficulty learning to read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Learning to Read 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Children can have problems doing the following: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Understanding vocabulary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Recognizing the sound structure or phonological properties of words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Developing letter-sound knowledge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Understanding the alphabetic principle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Decoding words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Relating content to background knowledge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Reading words and text with fluency (or quickly and accurately) 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Using comprehension strategies to help them remember and understand what is read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d486"/>
                </a:solidFill>
                <a:latin typeface="Hoefler Text"/>
              </a:rPr>
              <a:t>2015 Scores for Fourth-Grade Reading</a:t>
            </a:r>
            <a:endParaRPr b="1" lang="en-US" sz="30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National Assessment of Educational Progress (NAEP): 66 percent below </a:t>
            </a:r>
            <a:br>
              <a:rPr sz="2800"/>
            </a:b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or at basic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tate of Texas Assessments of Academic Readiness (STAAR): </a:t>
            </a:r>
            <a:br>
              <a:rPr sz="2800"/>
            </a:b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26 percent unsatisfactory (Level 1)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27" name="AutoShape 24"/>
          <p:cNvSpPr/>
          <p:nvPr/>
        </p:nvSpPr>
        <p:spPr>
          <a:xfrm>
            <a:off x="709560" y="5226120"/>
            <a:ext cx="7772400" cy="950760"/>
          </a:xfrm>
          <a:prstGeom prst="roundRect">
            <a:avLst>
              <a:gd name="adj" fmla="val 16667"/>
            </a:avLst>
          </a:prstGeom>
          <a:solidFill>
            <a:srgbClr val="2e8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838080" y="5302080"/>
            <a:ext cx="74818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486"/>
                </a:solidFill>
                <a:latin typeface="Hoefler Text"/>
                <a:ea typeface="Hoefler Text"/>
              </a:rPr>
              <a:t>We can do better!</a:t>
            </a:r>
            <a:endParaRPr b="0" lang="en-US" sz="4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5"/>
          <p:cNvSpPr/>
          <p:nvPr/>
        </p:nvSpPr>
        <p:spPr>
          <a:xfrm>
            <a:off x="-7920" y="841320"/>
            <a:ext cx="9144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First Grade Literacy Achievement Academy</a:t>
            </a:r>
            <a:endParaRPr b="0" lang="en-US" sz="2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Agenda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35040" y="1819440"/>
          <a:ext cx="7818480" cy="4660560"/>
        </p:xfrm>
        <a:graphic>
          <a:graphicData uri="http://schemas.openxmlformats.org/drawingml/2006/table">
            <a:tbl>
              <a:tblPr/>
              <a:tblGrid>
                <a:gridCol w="2606760"/>
                <a:gridCol w="2604960"/>
                <a:gridCol w="260676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6cf83"/>
                          </a:solidFill>
                          <a:latin typeface="Tahoma"/>
                        </a:rPr>
                        <a:t>DAY 1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dcf84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24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6cf83"/>
                          </a:solidFill>
                          <a:latin typeface="Tahoma"/>
                        </a:rPr>
                        <a:t>DAY 2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dcf84"/>
                      </a:solidFill>
                    </a:lnL>
                    <a:lnR w="5760">
                      <a:solidFill>
                        <a:srgbClr val="fdcf84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24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6cf83"/>
                          </a:solidFill>
                          <a:latin typeface="Tahoma"/>
                        </a:rPr>
                        <a:t>DAY 3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dcf8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2476"/>
                    </a:solidFill>
                  </a:tcPr>
                </a:tc>
              </a:tr>
              <a:tr h="3952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dd486"/>
                          </a:solidFill>
                          <a:latin typeface="Tahoma"/>
                        </a:rPr>
                        <a:t>MORNING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040"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Academy Overview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English Language Learners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Features of Effective Instruction 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f247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Phonological Awareness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Phonic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and Spelling 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bf2476"/>
                      </a:solidFill>
                    </a:lnL>
                    <a:lnR w="5760">
                      <a:solidFill>
                        <a:srgbClr val="bf247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Vocabulary 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Reading Comprehension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Writing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bf247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dd486"/>
                          </a:solidFill>
                          <a:latin typeface="Tahoma"/>
                        </a:rPr>
                        <a:t>AFTERNOON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8680"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Differentiating Instruction 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Oral Language Development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Listening Comprehension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f247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Phonic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and Spelling (cont.)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Fluency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bf2476"/>
                      </a:solidFill>
                    </a:lnL>
                    <a:lnR w="5760">
                      <a:solidFill>
                        <a:srgbClr val="bf247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Using Assessment Data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2e8266"/>
                          </a:solidFill>
                          <a:latin typeface="Tahoma"/>
                        </a:rPr>
                        <a:t>Putting It All Together</a:t>
                      </a:r>
                      <a:endParaRPr b="0" lang="en-US" sz="16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bf247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54160" y="217440"/>
            <a:ext cx="8386560" cy="105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3838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Warm-Up Activity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ntroduce yourself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artner up: A and B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ake name tents using blue card stock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ntroduce challenging studen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omplete a dueling char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35" name="Picture 6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-277920" y="1552680"/>
            <a:ext cx="798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133640" y="2217600"/>
            <a:ext cx="678168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6440" indent="-406440">
              <a:spcBef>
                <a:spcPts val="499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Participant Material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Notes versions of slides                            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Handouts, including reference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lder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Resource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40" name="Picture 9" descr="NotebookIcon.png"/>
          <p:cNvPicPr/>
          <p:nvPr/>
        </p:nvPicPr>
        <p:blipFill>
          <a:blip r:embed="rId1"/>
          <a:stretch/>
        </p:blipFill>
        <p:spPr>
          <a:xfrm>
            <a:off x="8442360" y="646200"/>
            <a:ext cx="79380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-277920" y="1552680"/>
            <a:ext cx="798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133640" y="2217600"/>
            <a:ext cx="678168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6440" indent="-406440">
              <a:spcBef>
                <a:spcPts val="499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Participant Materials (cont.)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ublication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upplies and activity material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eacher’s editions of reading program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hildren’s book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43080" y="225360"/>
            <a:ext cx="8386560" cy="105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3838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04880" y="1125360"/>
            <a:ext cx="7610400" cy="48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627120" indent="-3985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5c007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Academy Resources: Classics</a:t>
            </a:r>
            <a:endParaRPr b="1" lang="en-US" sz="3200" spc="-1" strike="noStrike">
              <a:solidFill>
                <a:srgbClr val="fdd486"/>
              </a:solidFill>
              <a:latin typeface="Hoefler Tex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f2476"/>
                </a:solidFill>
                <a:latin typeface="Tahoma"/>
              </a:rPr>
              <a:t>Preventing Reading Difficulties in Young Children </a:t>
            </a: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(National Research Council)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f2476"/>
                </a:solidFill>
                <a:latin typeface="Tahoma"/>
              </a:rPr>
              <a:t>Starting Out Right: A Guide to Promoting Children’s Reading Success </a:t>
            </a: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(National Research Council)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f2476"/>
                </a:solidFill>
                <a:latin typeface="Tahoma"/>
              </a:rPr>
              <a:t>Teaching Children to Read: An Evidence-Based Assessment of the Scientific Research Literature on Reading and Its Implications for Reading Instruction </a:t>
            </a: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(National Reading Panel)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f2476"/>
                </a:solidFill>
                <a:latin typeface="Tahoma"/>
              </a:rPr>
              <a:t>Put Reading First: The Research Building Blocks for Teaching Children to Read </a:t>
            </a: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(National Institute for Literacy)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49" name="Picture 7" descr="NotebookIcon.png"/>
          <p:cNvPicPr/>
          <p:nvPr/>
        </p:nvPicPr>
        <p:blipFill>
          <a:blip r:embed="rId1"/>
          <a:stretch/>
        </p:blipFill>
        <p:spPr>
          <a:xfrm>
            <a:off x="8442360" y="646200"/>
            <a:ext cx="793800" cy="93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7:16:06Z</dcterms:created>
  <dc:creator>Elana Wakeman</dc:creator>
  <dc:description/>
  <dc:language>en-US</dc:language>
  <cp:lastModifiedBy>Matthew Slater</cp:lastModifiedBy>
  <cp:lastPrinted>2009-10-06T16:35:00Z</cp:lastPrinted>
  <dcterms:modified xsi:type="dcterms:W3CDTF">2016-06-09T20:04:59Z</dcterms:modified>
  <cp:revision>353</cp:revision>
  <dc:subject/>
  <dc:title>Overview of the Kindergarten Teacher Reading Academy (KTRA)</dc:title>
</cp:coreProperties>
</file>