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295280" y="1600200"/>
            <a:ext cx="5028840" cy="3657240"/>
            <a:chOff x="1295280" y="1600200"/>
            <a:chExt cx="5028840" cy="3657240"/>
          </a:xfrm>
        </p:grpSpPr>
        <p:sp>
          <p:nvSpPr>
            <p:cNvPr id="215" name="Rectangle 5"/>
            <p:cNvSpPr/>
            <p:nvPr/>
          </p:nvSpPr>
          <p:spPr>
            <a:xfrm>
              <a:off x="1415880" y="1721880"/>
              <a:ext cx="4908240" cy="3535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295280" y="1600200"/>
              <a:ext cx="4908240" cy="35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240" y="1676520"/>
            <a:ext cx="4876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move the slide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355760" y="5734080"/>
            <a:ext cx="435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c0071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531800" y="1676520"/>
            <a:ext cx="4484880" cy="3362040"/>
          </a:xfrm>
          <a:prstGeom prst="rect">
            <a:avLst/>
          </a:prstGeom>
          <a:ln w="0">
            <a:noFill/>
          </a:ln>
        </p:spPr>
      </p:sp>
      <p:sp>
        <p:nvSpPr>
          <p:cNvPr id="315" name="Rectangle 7"/>
          <p:cNvSpPr/>
          <p:nvPr/>
        </p:nvSpPr>
        <p:spPr>
          <a:xfrm>
            <a:off x="6629400" y="88390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346-D4DE-4F0F-99E4-3E7E13EA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8A2-A7AE-4EC6-946C-A80FF9DF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358-239A-4C10-8F81-BA43EA85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C27-A9A9-4ACE-9AE7-97AAB23D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603-138D-4B57-A7EF-B800DD81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BC1-1FCF-4CBC-8271-FD181108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5FF-30FF-4B25-B275-F60ED603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F0F-0B0A-4DD0-98CC-8B4F1EB5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F50-A9ED-40DD-AF42-9C549DC9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CA0-3108-4DF2-820B-587F82C5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B38-1EBF-4FDF-858E-C9F8202C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1A2-B184-4B84-A9E2-2343E878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5DB9-F48A-4F91-B346-0436C6474CF1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" name="Text Box 111"/>
          <p:cNvSpPr/>
          <p:nvPr/>
        </p:nvSpPr>
        <p:spPr>
          <a:xfrm>
            <a:off x="235080" y="6611760"/>
            <a:ext cx="17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Listening Comprehension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A6FC-5A75-4296-87A5-75603AB0E48D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2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3" name="Text Box 111"/>
          <p:cNvSpPr/>
          <p:nvPr/>
        </p:nvSpPr>
        <p:spPr>
          <a:xfrm>
            <a:off x="235080" y="6611760"/>
            <a:ext cx="17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Listening Comprehension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44" name="Picture 6" descr="1M6_titl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6C31-6F82-4A9A-BFFD-7E1427F76FAD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4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5" name="Text Box 111"/>
          <p:cNvSpPr/>
          <p:nvPr/>
        </p:nvSpPr>
        <p:spPr>
          <a:xfrm>
            <a:off x="235080" y="6611760"/>
            <a:ext cx="17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Listening Comprehension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86" name="Picture 6" descr="0_thrulin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EEA0-B744-44B6-9915-C873937EA757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8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9" name="Text Box 111"/>
          <p:cNvSpPr/>
          <p:nvPr/>
        </p:nvSpPr>
        <p:spPr>
          <a:xfrm>
            <a:off x="246240" y="6611760"/>
            <a:ext cx="21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KTLA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55E4-7254-48F1-BFC3-193B113B6207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29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0" name="Text Box 111"/>
          <p:cNvSpPr/>
          <p:nvPr/>
        </p:nvSpPr>
        <p:spPr>
          <a:xfrm>
            <a:off x="235080" y="6611760"/>
            <a:ext cx="17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Listening Comprehension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E9F2-7DA9-4919-AAD4-35DA25ABCD46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0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1" name="Text Box 111"/>
          <p:cNvSpPr/>
          <p:nvPr/>
        </p:nvSpPr>
        <p:spPr>
          <a:xfrm>
            <a:off x="235080" y="6611760"/>
            <a:ext cx="17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Listening Comprehension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2D0A-18DD-4063-A55D-3B707137F9F3}" type="slidenum"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Teaching Narrative Story Structure 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376440" y="1258560"/>
            <a:ext cx="494856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The setting and a character or characters with a problem to solve or goal to achieve introduced at the beginning of a story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A series of plot episodes in the middle of a story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The resolution of the problem or the attainment of the goal at the end of the story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66" name="AutoShape 4"/>
          <p:cNvSpPr/>
          <p:nvPr/>
        </p:nvSpPr>
        <p:spPr>
          <a:xfrm flipH="1" rot="21305400">
            <a:off x="-606240" y="684000"/>
            <a:ext cx="3789360" cy="586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-789120" y="2976480"/>
            <a:ext cx="406584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dc484"/>
                </a:solidFill>
                <a:latin typeface="Hoefler Text"/>
                <a:ea typeface="ＭＳ Ｐゴシック"/>
              </a:rPr>
              <a:t>Story elements generally include</a:t>
            </a:r>
            <a:r>
              <a:rPr b="0" lang="is-IS" sz="2900" spc="-1" strike="noStrike">
                <a:solidFill>
                  <a:srgbClr val="fdc484"/>
                </a:solidFill>
                <a:latin typeface="Hoefler Text"/>
                <a:ea typeface="ＭＳ Ｐゴシック"/>
              </a:rPr>
              <a:t>…</a:t>
            </a:r>
            <a:endParaRPr b="0" lang="en-US" sz="29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Teaching Expository Text Structure 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e organizational structure of expository texts can differ from one text to another and sometimes within a single passage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Graphic Organizer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an guide students’ thinking and help them remember important elements and information in both narrative and expository texts 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an be used before, during, and after reading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72" name="Picture 6" descr="Handout.png"/>
          <p:cNvPicPr/>
          <p:nvPr/>
        </p:nvPicPr>
        <p:blipFill>
          <a:blip r:embed="rId1"/>
          <a:stretch/>
        </p:blipFill>
        <p:spPr>
          <a:xfrm>
            <a:off x="8489880" y="13986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3" name="Picture 7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Effective Questioning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160800" y="1157040"/>
            <a:ext cx="554184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Giving students a purpose for listening and reading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Focusing students’ attention on a topic and what is to be learned about the topic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Helping students think about what they hear read aloud 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Encouraging students to be aware of what they do and do not understand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Helping students to relate the content of what they are learning to what they already know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76" name="AutoShape 18"/>
          <p:cNvSpPr/>
          <p:nvPr/>
        </p:nvSpPr>
        <p:spPr>
          <a:xfrm flipH="1" rot="21305400">
            <a:off x="-491040" y="664920"/>
            <a:ext cx="3614760" cy="586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365040" y="2354400"/>
            <a:ext cx="2695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d287"/>
                </a:solidFill>
                <a:latin typeface="Hoefler Text"/>
              </a:rPr>
              <a:t>Effective questioning includes</a:t>
            </a:r>
            <a:r>
              <a:rPr b="0" lang="is-IS" sz="3000" spc="-1" strike="noStrike">
                <a:solidFill>
                  <a:srgbClr val="fed287"/>
                </a:solidFill>
                <a:latin typeface="Hoefler Text"/>
              </a:rPr>
              <a:t>…</a:t>
            </a:r>
            <a:endParaRPr b="0" lang="en-US" sz="30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63160" y="-3060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Scaffolding: Using Different Types 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of Questions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77880" y="1898640"/>
            <a:ext cx="699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2286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Encourage students to become aware of the information in the text 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449280" y="1427040"/>
            <a:ext cx="183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81" name="Picture 12" descr="Handout.png"/>
          <p:cNvPicPr/>
          <p:nvPr/>
        </p:nvPicPr>
        <p:blipFill>
          <a:blip r:embed="rId1"/>
          <a:stretch/>
        </p:blipFill>
        <p:spPr>
          <a:xfrm>
            <a:off x="8489880" y="13986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2" name="Picture 13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563840" y="4255920"/>
            <a:ext cx="69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2286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Encourage students to extend their thinking about the text and to use more elaborate language as they discuss the text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4" name="AutoShape 24"/>
          <p:cNvSpPr/>
          <p:nvPr/>
        </p:nvSpPr>
        <p:spPr>
          <a:xfrm>
            <a:off x="750960" y="1162080"/>
            <a:ext cx="6756480" cy="68904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909720" y="1257480"/>
            <a:ext cx="63514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  <a:ea typeface="Hoefler Text"/>
              </a:rPr>
              <a:t>Literal Questions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6" name="AutoShape 24"/>
          <p:cNvSpPr/>
          <p:nvPr/>
        </p:nvSpPr>
        <p:spPr>
          <a:xfrm>
            <a:off x="1717560" y="3506760"/>
            <a:ext cx="6531120" cy="68904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978200" y="3621240"/>
            <a:ext cx="617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  <a:ea typeface="Hoefler Text"/>
              </a:rPr>
              <a:t>Open-Ended Questions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Asking Questions Along the Continuum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rite several questions to ask before reading and several questions to ask after reading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t your table, role-play a read-aloud sess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90" name="Picture 6" descr="Handout.png"/>
          <p:cNvPicPr/>
          <p:nvPr/>
        </p:nvPicPr>
        <p:blipFill>
          <a:blip r:embed="rId1"/>
          <a:stretch/>
        </p:blipFill>
        <p:spPr>
          <a:xfrm>
            <a:off x="8489880" y="13986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1" name="Picture 7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63160" y="-3852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Consider Diversity: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English Language Learners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69760" y="1258560"/>
            <a:ext cx="759132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ELLs might struggle with comprehension because of limits in vocabulary and background knowledge, as well as structural differences between languages.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During listening comprehension instruction, ELLs learn to do the following: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lvl="1" marL="803160" indent="-4572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Derive meaning from text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lvl="1" marL="803160" indent="-4572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Talk about text 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lvl="1" marL="803160" indent="-4572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Focus on what they are learning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3160" y="-4752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Consider Diversity: 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English Language Learners (cont.)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ctivate and build background knowledge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review new vocabulary, concepts, and linguistic structure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Use graphic organizers and think-aloud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ummarize, discuss text, and monitor comprehension frequently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reate supportive environments.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96" name="Picture 4" descr="Handout.png"/>
          <p:cNvPicPr/>
          <p:nvPr/>
        </p:nvPicPr>
        <p:blipFill>
          <a:blip r:embed="rId1"/>
          <a:stretch/>
        </p:blipFill>
        <p:spPr>
          <a:xfrm>
            <a:off x="8489880" y="13986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7" name="Picture 5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63160" y="-3852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Progress Monitoring: 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Listening Comprehension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290760" y="1258560"/>
            <a:ext cx="503424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sking questions that will help students clarify the tex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Discussing the tex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Observing students’ behavior and listening to their response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Having students retell or dramatize the story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00" name="AutoShape 18"/>
          <p:cNvSpPr/>
          <p:nvPr/>
        </p:nvSpPr>
        <p:spPr>
          <a:xfrm flipH="1" rot="21305400">
            <a:off x="-491040" y="664920"/>
            <a:ext cx="3614760" cy="586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189000" y="2266920"/>
            <a:ext cx="26953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287"/>
                </a:solidFill>
                <a:latin typeface="Hoefler Text"/>
              </a:rPr>
              <a:t>Informal ways </a:t>
            </a:r>
            <a:br>
              <a:rPr sz="2600"/>
            </a:br>
            <a:r>
              <a:rPr b="0" lang="en-US" sz="2600" spc="-1" strike="noStrike">
                <a:solidFill>
                  <a:srgbClr val="fed287"/>
                </a:solidFill>
                <a:latin typeface="Hoefler Text"/>
              </a:rPr>
              <a:t>of knowing whether students understand what is being read to them include</a:t>
            </a:r>
            <a:r>
              <a:rPr b="0" lang="is-IS" sz="2600" spc="-1" strike="noStrike">
                <a:solidFill>
                  <a:srgbClr val="fed287"/>
                </a:solidFill>
                <a:latin typeface="Hoefler Text"/>
              </a:rPr>
              <a:t>…</a:t>
            </a:r>
            <a:endParaRPr b="0" lang="en-US" sz="26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302" name="Picture 5" descr="Handout.png"/>
          <p:cNvPicPr/>
          <p:nvPr/>
        </p:nvPicPr>
        <p:blipFill>
          <a:blip r:embed="rId1"/>
          <a:stretch/>
        </p:blipFill>
        <p:spPr>
          <a:xfrm>
            <a:off x="848988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The Importance of Comprehension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04" name="AutoShape 24"/>
          <p:cNvSpPr/>
          <p:nvPr/>
        </p:nvSpPr>
        <p:spPr>
          <a:xfrm>
            <a:off x="646200" y="1090440"/>
            <a:ext cx="7772400" cy="5283360"/>
          </a:xfrm>
          <a:prstGeom prst="roundRect">
            <a:avLst>
              <a:gd name="adj" fmla="val 8810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049400" y="1204920"/>
            <a:ext cx="72072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dd486"/>
                </a:solidFill>
                <a:latin typeface="Hoefler Text"/>
                <a:ea typeface="Hoefler Text"/>
              </a:rPr>
              <a:t>“</a:t>
            </a:r>
            <a:r>
              <a:rPr b="1" lang="en-US" sz="2700" spc="-1" strike="noStrike">
                <a:solidFill>
                  <a:srgbClr val="fdd486"/>
                </a:solidFill>
                <a:latin typeface="Hoefler Text"/>
                <a:ea typeface="Hoefler Text"/>
              </a:rPr>
              <a:t>Even teachers in the primary grades can begin to build the foundation for reading comprehension. Reading is a complex process that develops over time</a:t>
            </a:r>
            <a:r>
              <a:rPr b="1" lang="is-IS" sz="2700" spc="-1" strike="noStrike">
                <a:solidFill>
                  <a:srgbClr val="fdd486"/>
                </a:solidFill>
                <a:latin typeface="Hoefler Text"/>
                <a:ea typeface="Hoefler Text"/>
              </a:rPr>
              <a:t>…</a:t>
            </a:r>
            <a:r>
              <a:rPr b="1" lang="en-US" sz="2700" spc="-1" strike="noStrike">
                <a:solidFill>
                  <a:srgbClr val="fdd486"/>
                </a:solidFill>
                <a:latin typeface="Hoefler Text"/>
                <a:ea typeface="Hoefler Text"/>
              </a:rPr>
              <a:t>emphasize text comprehension from the beginning, rather than waiting until students have mastered ‘the basics’ of reading</a:t>
            </a:r>
            <a:r>
              <a:rPr b="1" lang="is-IS" sz="2700" spc="-1" strike="noStrike">
                <a:solidFill>
                  <a:srgbClr val="fdd486"/>
                </a:solidFill>
                <a:latin typeface="Hoefler Text"/>
                <a:ea typeface="Hoefler Text"/>
              </a:rPr>
              <a:t>…</a:t>
            </a:r>
            <a:r>
              <a:rPr b="1" lang="en-US" sz="2700" spc="-1" strike="noStrike">
                <a:solidFill>
                  <a:srgbClr val="fdd486"/>
                </a:solidFill>
                <a:latin typeface="Hoefler Text"/>
                <a:ea typeface="Hoefler Text"/>
              </a:rPr>
              <a:t>Beginning readers, as well as more advanced readers, must understand that the ultimate goal of reading is comprehension.” </a:t>
            </a:r>
            <a:endParaRPr b="0" lang="en-US" sz="2700" spc="-1" strike="noStrike">
              <a:solidFill>
                <a:srgbClr val="5c0071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d486"/>
                </a:solidFill>
                <a:latin typeface="Hoefler Text"/>
                <a:ea typeface="Hoefler Text"/>
              </a:rPr>
              <a:t>— </a:t>
            </a:r>
            <a:r>
              <a:rPr b="0" lang="en-US" sz="1800" spc="-1" strike="noStrike">
                <a:solidFill>
                  <a:srgbClr val="fdd486"/>
                </a:solidFill>
                <a:latin typeface="Hoefler Text"/>
                <a:ea typeface="Hoefler Text"/>
              </a:rPr>
              <a:t>National Institute for Literacy, 2001, p. 55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703440" y="2341440"/>
            <a:ext cx="760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What Is Listening Comprehension?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fers to students’ understanding of stories and other texts that are read aloud to them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Lays the foundation for students to later be able to “understand what they read, remember what they read, and communicate with others about what they read”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2476"/>
                </a:solidFill>
                <a:latin typeface="Tahoma"/>
              </a:rPr>
              <a:t>— </a:t>
            </a:r>
            <a:r>
              <a:rPr b="0" lang="en-US" sz="1800" spc="-1" strike="noStrike">
                <a:solidFill>
                  <a:srgbClr val="bf2476"/>
                </a:solidFill>
                <a:latin typeface="Tahoma"/>
              </a:rPr>
              <a:t>National Institute for Literacy, 2001, p. 48</a:t>
            </a:r>
            <a:endParaRPr b="1" lang="en-US" sz="1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arry It Through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omplete Handout 13 with your partner for the last three sessions of the Academy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Differentiating Instruction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Oral Language Developmen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Listening Comprehension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308" name="Picture 4" descr="Handout.png"/>
          <p:cNvPicPr/>
          <p:nvPr/>
        </p:nvPicPr>
        <p:blipFill>
          <a:blip r:embed="rId1"/>
          <a:stretch/>
        </p:blipFill>
        <p:spPr>
          <a:xfrm>
            <a:off x="8489880" y="13986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9" name="Picture 5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Listening Comprehension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40" indent="-32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Listening comprehension is enhanced as students listen to stories that are read aloud, participate in discussions of stories, and engage in other literacy-related activitie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240" indent="-3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0" y="876240"/>
            <a:ext cx="3554280" cy="5673960"/>
          </a:xfrm>
          <a:prstGeom prst="rect">
            <a:avLst/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26" name="Picture 5" descr="TEKS_TRA_outline.png"/>
          <p:cNvPicPr/>
          <p:nvPr/>
        </p:nvPicPr>
        <p:blipFill>
          <a:blip r:embed="rId1"/>
          <a:stretch/>
        </p:blipFill>
        <p:spPr>
          <a:xfrm>
            <a:off x="301680" y="907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0"/>
          <p:cNvSpPr/>
          <p:nvPr/>
        </p:nvSpPr>
        <p:spPr>
          <a:xfrm>
            <a:off x="628560" y="1563840"/>
            <a:ext cx="317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dd486"/>
                </a:solidFill>
                <a:latin typeface="Hoefler Text"/>
              </a:rPr>
              <a:t>T</a:t>
            </a:r>
            <a:r>
              <a:rPr b="1" i="1" lang="en-US" sz="600" spc="-1" strike="noStrike">
                <a:solidFill>
                  <a:srgbClr val="fdd486"/>
                </a:solidFill>
                <a:latin typeface="Hoefler Text"/>
              </a:rPr>
              <a:t> </a:t>
            </a:r>
            <a:r>
              <a:rPr b="1" lang="en-US" sz="1800" spc="-1" strike="noStrike">
                <a:solidFill>
                  <a:srgbClr val="fdd486"/>
                </a:solidFill>
                <a:latin typeface="Hoefler Text"/>
              </a:rPr>
              <a:t>EXAS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dd486"/>
                </a:solidFill>
                <a:latin typeface="Hoefler Text"/>
              </a:rPr>
              <a:t>E</a:t>
            </a:r>
            <a:r>
              <a:rPr b="1" lang="en-US" sz="1800" spc="-1" strike="noStrike">
                <a:solidFill>
                  <a:srgbClr val="fdd486"/>
                </a:solidFill>
                <a:latin typeface="Hoefler Text"/>
              </a:rPr>
              <a:t>SSENTIAL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	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	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dd486"/>
                </a:solidFill>
                <a:latin typeface="Hoefler Text"/>
              </a:rPr>
              <a:t>K</a:t>
            </a:r>
            <a:r>
              <a:rPr b="1" lang="en-US" sz="1800" spc="-1" strike="noStrike">
                <a:solidFill>
                  <a:srgbClr val="fdd486"/>
                </a:solidFill>
                <a:latin typeface="Hoefler Text"/>
              </a:rPr>
              <a:t>NOWLEDGE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</a:t>
            </a:r>
            <a:r>
              <a:rPr b="1" lang="en-US" sz="1600" spc="-1" strike="noStrike">
                <a:solidFill>
                  <a:srgbClr val="fdd486"/>
                </a:solidFill>
                <a:latin typeface="Hoefler Text"/>
              </a:rPr>
              <a:t>AND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	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dd486"/>
                </a:solidFill>
                <a:latin typeface="Hoefler Text"/>
              </a:rPr>
              <a:t>S</a:t>
            </a:r>
            <a:r>
              <a:rPr b="1" lang="en-US" sz="1800" spc="-1" strike="noStrike">
                <a:solidFill>
                  <a:srgbClr val="fdd486"/>
                </a:solidFill>
                <a:latin typeface="Hoefler Text"/>
              </a:rPr>
              <a:t>KILLS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(TEKS)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d486"/>
                </a:solidFill>
                <a:latin typeface="Hoefler Text"/>
              </a:rPr>
              <a:t>Texas Essential Knowledge and Skills</a:t>
            </a:r>
            <a:endParaRPr b="1" lang="en-US" sz="30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38680" y="1258560"/>
            <a:ext cx="456552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  <a:ea typeface="Tahoma"/>
              </a:rPr>
              <a:t>Listening and Speaking:1(27) Students use comprehension skills to listen attentively to others in formal and informal settings.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  <a:ea typeface="Tahoma"/>
              </a:rPr>
              <a:t>Reading: </a:t>
            </a:r>
            <a:br>
              <a:rPr sz="2600"/>
            </a:br>
            <a:r>
              <a:rPr b="1" lang="en-US" sz="2600" spc="-1" strike="noStrike">
                <a:solidFill>
                  <a:srgbClr val="bf2476"/>
                </a:solidFill>
                <a:latin typeface="Tahoma"/>
                <a:ea typeface="Tahoma"/>
              </a:rPr>
              <a:t>1(4) Students comprehend a variety of texts drawing on useful strategies as needed.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30" name="Picture 13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NotebookIcon.png"/>
          <p:cNvPicPr/>
          <p:nvPr/>
        </p:nvPicPr>
        <p:blipFill>
          <a:blip r:embed="rId3"/>
          <a:stretch/>
        </p:blipFill>
        <p:spPr>
          <a:xfrm>
            <a:off x="8442360" y="1292400"/>
            <a:ext cx="793800" cy="933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4" descr="Handout.png"/>
          <p:cNvPicPr/>
          <p:nvPr/>
        </p:nvPicPr>
        <p:blipFill>
          <a:blip r:embed="rId4"/>
          <a:stretch/>
        </p:blipFill>
        <p:spPr>
          <a:xfrm>
            <a:off x="8516880" y="21798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220680" y="3321000"/>
            <a:ext cx="8923320" cy="12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dd486"/>
                </a:solidFill>
                <a:latin typeface="Hoefler Text"/>
              </a:rPr>
              <a:t>Listening Comprehension Instruction</a:t>
            </a:r>
            <a:endParaRPr b="1" lang="en-US" sz="29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13240" y="1258560"/>
            <a:ext cx="481176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Make predictions 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Answer questions about the book’s content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Read and talk along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Share their own interests related to the book’s content 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Ask questions of you and their peers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Re-enact or retell the story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36" name="AutoShape 12"/>
          <p:cNvSpPr/>
          <p:nvPr/>
        </p:nvSpPr>
        <p:spPr>
          <a:xfrm flipH="1">
            <a:off x="-483480" y="836640"/>
            <a:ext cx="3830760" cy="584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152280" y="2670120"/>
            <a:ext cx="3249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486"/>
                </a:solidFill>
                <a:latin typeface="Hoefler Text"/>
              </a:rPr>
              <a:t>When you read aloud, encourage children to... 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1484280"/>
            <a:ext cx="949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627120" indent="-3985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0071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63160" y="-4968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Research-Based 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Comprehension Instruction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562200" y="1258560"/>
            <a:ext cx="4762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onitor their comprehension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ummarize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cognize story structure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Use graphic organizer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nswer and generate question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41" name="AutoShape 11"/>
          <p:cNvSpPr/>
          <p:nvPr/>
        </p:nvSpPr>
        <p:spPr>
          <a:xfrm flipH="1">
            <a:off x="-483480" y="782640"/>
            <a:ext cx="3830760" cy="591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174600" y="2371680"/>
            <a:ext cx="311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486"/>
                </a:solidFill>
                <a:latin typeface="Hoefler Text"/>
              </a:rPr>
              <a:t>Comprehension instruction can include showing children how to...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2"/>
          <p:cNvSpPr/>
          <p:nvPr/>
        </p:nvSpPr>
        <p:spPr>
          <a:xfrm>
            <a:off x="291960" y="888840"/>
            <a:ext cx="8547120" cy="1575000"/>
          </a:xfrm>
          <a:prstGeom prst="rect">
            <a:avLst/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4" name="AutoShape 11"/>
          <p:cNvSpPr/>
          <p:nvPr/>
        </p:nvSpPr>
        <p:spPr>
          <a:xfrm flipH="1" rot="21199200">
            <a:off x="-511920" y="2021040"/>
            <a:ext cx="3144960" cy="456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Monitoring Understanding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836440" y="2639520"/>
            <a:ext cx="5488200" cy="34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How you picture in your mind what is happening in a story or book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How you reread certain parts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How you stop and summarize what has happened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How you regularly make predictions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31320" y="3929040"/>
            <a:ext cx="26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d287"/>
                </a:solidFill>
                <a:latin typeface="Hoefler Text"/>
              </a:rPr>
              <a:t>Demonstrate</a:t>
            </a:r>
            <a:r>
              <a:rPr b="0" lang="is-IS" sz="2800" spc="-1" strike="noStrike">
                <a:solidFill>
                  <a:srgbClr val="fed287"/>
                </a:solidFill>
                <a:latin typeface="Hoefler Text"/>
              </a:rPr>
              <a:t>…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52520" y="119052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d287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ed287"/>
                </a:solidFill>
                <a:latin typeface="Tahoma"/>
              </a:rPr>
              <a:t>Thinking aloud” models how good readers monitor their understanding of what they are reading.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49" name="Picture 7" descr="Handout.png"/>
          <p:cNvPicPr/>
          <p:nvPr/>
        </p:nvPicPr>
        <p:blipFill>
          <a:blip r:embed="rId1"/>
          <a:stretch/>
        </p:blipFill>
        <p:spPr>
          <a:xfrm>
            <a:off x="848988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2"/>
          <p:cNvSpPr/>
          <p:nvPr/>
        </p:nvSpPr>
        <p:spPr>
          <a:xfrm>
            <a:off x="814320" y="1649520"/>
            <a:ext cx="7593120" cy="985680"/>
          </a:xfrm>
          <a:prstGeom prst="rect">
            <a:avLst/>
          </a:pr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dd486"/>
                </a:solidFill>
                <a:latin typeface="Hoefler Text"/>
              </a:rPr>
              <a:t>Reading Aloud Different Types of Texts</a:t>
            </a:r>
            <a:endParaRPr b="1" lang="en-US" sz="29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754200" y="901800"/>
            <a:ext cx="183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79320" y="1952640"/>
            <a:ext cx="36705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22860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      </a:t>
            </a:r>
            <a:r>
              <a:rPr b="1" lang="en-US" sz="2500" spc="-1" strike="noStrike">
                <a:solidFill>
                  <a:srgbClr val="fdd486"/>
                </a:solidFill>
                <a:latin typeface="Tahoma"/>
                <a:ea typeface="ＭＳ Ｐゴシック"/>
              </a:rPr>
              <a:t>Narratives</a:t>
            </a:r>
            <a:endParaRPr b="0" lang="en-US" sz="2500" spc="-1" strike="noStrike">
              <a:solidFill>
                <a:srgbClr val="5c0071"/>
              </a:solidFill>
              <a:latin typeface="Tahoma"/>
            </a:endParaRPr>
          </a:p>
          <a:p>
            <a:pPr lvl="2" marL="22860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Tell a story using a familiar story structure that includes a beginning, a middle, and an end </a:t>
            </a:r>
            <a:endParaRPr b="0" lang="en-US" sz="2500" spc="-1" strike="noStrike">
              <a:solidFill>
                <a:srgbClr val="5c0071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4656240" y="177480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d287"/>
                </a:solidFill>
                <a:latin typeface="Tahoma"/>
              </a:rPr>
              <a:t>Expository (or informational) texts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4464000" y="1676520"/>
            <a:ext cx="0" cy="977760"/>
          </a:xfrm>
          <a:prstGeom prst="line">
            <a:avLst/>
          </a:prstGeom>
          <a:ln w="12600">
            <a:solidFill>
              <a:srgbClr val="fed2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4464000" y="2643120"/>
            <a:ext cx="0" cy="2725920"/>
          </a:xfrm>
          <a:prstGeom prst="line">
            <a:avLst/>
          </a:prstGeom>
          <a:ln w="1260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4743360" y="2655720"/>
            <a:ext cx="367056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22860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Tell about one or more topics in different and varied ways </a:t>
            </a:r>
            <a:endParaRPr b="0" lang="en-US" sz="2500" spc="-1" strike="noStrike">
              <a:solidFill>
                <a:srgbClr val="5c0071"/>
              </a:solidFill>
              <a:latin typeface="Tahoma"/>
            </a:endParaRPr>
          </a:p>
          <a:p>
            <a:pPr lvl="2" marL="22860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58" name="Picture 10" descr="Handout.png"/>
          <p:cNvPicPr/>
          <p:nvPr/>
        </p:nvPicPr>
        <p:blipFill>
          <a:blip r:embed="rId1"/>
          <a:stretch/>
        </p:blipFill>
        <p:spPr>
          <a:xfrm>
            <a:off x="848988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3"/>
          <p:cNvSpPr/>
          <p:nvPr/>
        </p:nvSpPr>
        <p:spPr>
          <a:xfrm flipH="1" rot="21305400">
            <a:off x="-732960" y="673200"/>
            <a:ext cx="4017960" cy="5914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63160" y="-2844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Reading Aloud Different Types 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of Texts (cont.)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435480" y="1258560"/>
            <a:ext cx="488952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ake connections to real-life experiences and build background knowledge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Increase their vocabulary and understand different types of books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54200" y="901800"/>
            <a:ext cx="183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-152280" y="2121480"/>
            <a:ext cx="31384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343080" indent="-114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d287"/>
                </a:solidFill>
                <a:latin typeface="Hoefler Text"/>
                <a:ea typeface="ＭＳ Ｐゴシック"/>
              </a:rPr>
              <a:t> </a:t>
            </a:r>
            <a:r>
              <a:rPr b="0" lang="en-US" sz="3000" spc="-1" strike="noStrike">
                <a:solidFill>
                  <a:srgbClr val="fed287"/>
                </a:solidFill>
                <a:latin typeface="Hoefler Text"/>
                <a:ea typeface="ＭＳ Ｐゴシック"/>
              </a:rPr>
              <a:t>Reading narrative and expository texts aloud to students helps them</a:t>
            </a:r>
            <a:r>
              <a:rPr b="0" lang="is-IS" sz="3000" spc="-1" strike="noStrike">
                <a:solidFill>
                  <a:srgbClr val="fed287"/>
                </a:solidFill>
                <a:latin typeface="Hoefler Text"/>
                <a:ea typeface="ＭＳ Ｐゴシック"/>
              </a:rPr>
              <a:t>…</a:t>
            </a:r>
            <a:endParaRPr b="0" lang="en-US" sz="30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7:16:06Z</dcterms:created>
  <dc:creator>Elana Wakeman</dc:creator>
  <dc:description/>
  <dc:language>en-US</dc:language>
  <cp:lastModifiedBy>Matthew Slater</cp:lastModifiedBy>
  <cp:lastPrinted>2009-10-06T16:35:00Z</cp:lastPrinted>
  <dcterms:modified xsi:type="dcterms:W3CDTF">2016-06-17T17:08:07Z</dcterms:modified>
  <cp:revision>364</cp:revision>
  <dc:subject/>
  <dc:title>Overview of the Kindergarten Teacher Reading Academy (KTRA)</dc:title>
</cp:coreProperties>
</file>