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1A5-D17D-4F92-A9C1-92D261B8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ED4-B459-4B38-BEB3-65BBC859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31F-B604-4655-ADF4-A860143E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AB0-7526-4FC3-B104-30B5A8A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3EB-1838-4F2B-A076-EB3799F9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438-D763-47C9-AA22-E010880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354-7A4C-40F7-BBE8-0746AC3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FBE-5778-4239-A663-F516569C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0A7-49BF-49E9-9E0C-92776F4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388-0C86-467E-B0A4-6A02BA31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CCC-B9FD-4A39-B5BB-84385107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51B-8484-4F6E-AA37-B9DB1296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5D1B-D4F4-480A-ADE7-B5C07FEAE449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235440" y="6611760"/>
            <a:ext cx="19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4C5-9A8D-446C-9189-3610ACE3673F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2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3" name="Text Box 111"/>
          <p:cNvSpPr/>
          <p:nvPr/>
        </p:nvSpPr>
        <p:spPr>
          <a:xfrm>
            <a:off x="235440" y="6611760"/>
            <a:ext cx="19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44" name="Picture 6" descr="1M5_titl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93BB-262C-4506-8F09-8E99FBBC8EAF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4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5" name="Text Box 111"/>
          <p:cNvSpPr/>
          <p:nvPr/>
        </p:nvSpPr>
        <p:spPr>
          <a:xfrm>
            <a:off x="235440" y="6611760"/>
            <a:ext cx="19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86" name="Picture 6" descr="0_thrulin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29A3-F050-45BE-B29F-59EDB623B706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8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9" name="Text Box 111"/>
          <p:cNvSpPr/>
          <p:nvPr/>
        </p:nvSpPr>
        <p:spPr>
          <a:xfrm>
            <a:off x="246240" y="6611760"/>
            <a:ext cx="21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KTLA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AE3A-41C9-46DA-8252-56C10532D126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29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0" name="Text Box 111"/>
          <p:cNvSpPr/>
          <p:nvPr/>
        </p:nvSpPr>
        <p:spPr>
          <a:xfrm>
            <a:off x="235440" y="6611760"/>
            <a:ext cx="19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0F7-95FF-425B-A88E-FF867828E6F0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0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1" name="Text Box 111"/>
          <p:cNvSpPr/>
          <p:nvPr/>
        </p:nvSpPr>
        <p:spPr>
          <a:xfrm>
            <a:off x="235440" y="6611760"/>
            <a:ext cx="19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342F-7225-4FF3-810F-7F4A037A2868}" type="slidenum"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63160" y="-3384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Consider Diversity: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English Language Learner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Ground instruction in existing native language developmen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ncrease accessibility to the instructional languag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ovide authentic opportunities for collaboration and language us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ovide models of academic languag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ovide structured English vocabulary and language instruc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1085760" y="1447920"/>
            <a:ext cx="738684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spcBef>
                <a:spcPts val="1500"/>
              </a:spcBef>
              <a:buClr>
                <a:srgbClr val="5c00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Progress Monitoring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onitor oral language development by listening to individual students’ languag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dapt instruction to meet individual need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03" name="Picture 4" descr="Handout.png"/>
          <p:cNvPicPr/>
          <p:nvPr/>
        </p:nvPicPr>
        <p:blipFill>
          <a:blip r:embed="rId1"/>
          <a:stretch/>
        </p:blipFill>
        <p:spPr>
          <a:xfrm>
            <a:off x="852012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Oral Language Lesson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hoose a children’s book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ad Lesson 1 on the Oral Language Lesson handou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Using the Sharing Hand Planning Guide, write six question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actice the less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06" name="Picture 5" descr="Handout.png"/>
          <p:cNvPicPr/>
          <p:nvPr/>
        </p:nvPicPr>
        <p:blipFill>
          <a:blip r:embed="rId1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7" name="Picture 8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4"/>
          <p:cNvSpPr/>
          <p:nvPr/>
        </p:nvSpPr>
        <p:spPr>
          <a:xfrm>
            <a:off x="596880" y="1303200"/>
            <a:ext cx="7772400" cy="164952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Oral Language Developmen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3320" y="3234960"/>
            <a:ext cx="8205480" cy="288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Oral language involves both speaking and listening and includes vocabulary development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Children need numerous opportunities to engage in frequent, meaningful, and focused conversations with responsive peers and adults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725400" y="1417680"/>
            <a:ext cx="74818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“</a:t>
            </a: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Research consistently demonstrates that the more children know about language</a:t>
            </a:r>
            <a:r>
              <a:rPr b="1" lang="is-I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…</a:t>
            </a: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the better equipped they are to succeed in reading.”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d486"/>
                </a:solidFill>
                <a:latin typeface="Hoefler Text"/>
                <a:ea typeface="Hoefler Text"/>
              </a:rPr>
              <a:t>— </a:t>
            </a:r>
            <a:r>
              <a:rPr b="0" lang="en-US" sz="1800" spc="-1" strike="noStrike">
                <a:solidFill>
                  <a:srgbClr val="fdd486"/>
                </a:solidFill>
                <a:latin typeface="Hoefler Text"/>
                <a:ea typeface="Hoefler Text"/>
              </a:rPr>
              <a:t>Burns, Griffin, &amp; Snow, 1999, p. 8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566640" y="1095480"/>
            <a:ext cx="3095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f8468"/>
                </a:solidFill>
                <a:latin typeface="Hoefler Text"/>
              </a:rPr>
              <a:t>Phonology</a:t>
            </a:r>
            <a:endParaRPr b="0" lang="en-US" sz="3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0520" y="6586560"/>
            <a:ext cx="596880" cy="95400"/>
          </a:xfrm>
          <a:prstGeom prst="rect">
            <a:avLst/>
          </a:prstGeom>
          <a:solidFill>
            <a:srgbClr val="5d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012680" y="1791000"/>
            <a:ext cx="296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the basic sound units of language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504720" y="4809960"/>
            <a:ext cx="267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9240" indent="-2289240">
              <a:spcBef>
                <a:spcPts val="1250"/>
              </a:spcBef>
              <a:tabLst>
                <a:tab algn="l" pos="0"/>
                <a:tab algn="l" pos="45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2b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Essential Language System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0" y="6637320"/>
            <a:ext cx="304920" cy="95400"/>
          </a:xfrm>
          <a:prstGeom prst="rect">
            <a:avLst/>
          </a:prstGeom>
          <a:solidFill>
            <a:srgbClr val="5d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541440" y="3241800"/>
            <a:ext cx="3095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f8468"/>
                </a:solidFill>
                <a:latin typeface="Hoefler Text"/>
              </a:rPr>
              <a:t>Grammar</a:t>
            </a:r>
            <a:endParaRPr b="0" lang="en-US" sz="3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884840" y="1095480"/>
            <a:ext cx="3095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f8468"/>
                </a:solidFill>
                <a:latin typeface="Hoefler Text"/>
              </a:rPr>
              <a:t>Vocabulary</a:t>
            </a:r>
            <a:endParaRPr b="0" lang="en-US" sz="3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4859280" y="3241800"/>
            <a:ext cx="3095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f8468"/>
                </a:solidFill>
                <a:latin typeface="Hoefler Text"/>
              </a:rPr>
              <a:t>Pragmatics</a:t>
            </a:r>
            <a:endParaRPr b="0" lang="en-US" sz="3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5332320" y="1801440"/>
            <a:ext cx="251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knowledge of words and their meanings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974880" y="40165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system for combining words into phrases and sentences that make sense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5307120" y="3980880"/>
            <a:ext cx="30495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appropriate use of language to communicate effectively (includes extended discourse)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48"/>
          <p:cNvSpPr/>
          <p:nvPr/>
        </p:nvSpPr>
        <p:spPr>
          <a:xfrm>
            <a:off x="495360" y="2793960"/>
            <a:ext cx="8140680" cy="6372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12600">
            <a:solidFill>
              <a:srgbClr val="2f84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0" name="AutoShape 49"/>
          <p:cNvSpPr/>
          <p:nvPr/>
        </p:nvSpPr>
        <p:spPr>
          <a:xfrm>
            <a:off x="495360" y="5054760"/>
            <a:ext cx="8140680" cy="6336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12600">
            <a:solidFill>
              <a:srgbClr val="2f84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1" name="AutoShape 44"/>
          <p:cNvSpPr/>
          <p:nvPr/>
        </p:nvSpPr>
        <p:spPr>
          <a:xfrm>
            <a:off x="495360" y="4025880"/>
            <a:ext cx="8140680" cy="6336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12600">
            <a:solidFill>
              <a:srgbClr val="2f84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2" name="Rectangle 36"/>
          <p:cNvSpPr/>
          <p:nvPr/>
        </p:nvSpPr>
        <p:spPr>
          <a:xfrm flipV="1" rot="5400000">
            <a:off x="4269600" y="-2777040"/>
            <a:ext cx="600120" cy="8193240"/>
          </a:xfrm>
          <a:prstGeom prst="rect">
            <a:avLst/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859040" y="27367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111640" y="26859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859040" y="32749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111640" y="32241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5111640" y="34574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5111640" y="36892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859040" y="40608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5111640" y="40100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5111640" y="42433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859040" y="48434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111640" y="47926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5111640" y="52624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5111640" y="54928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444600" y="1038240"/>
            <a:ext cx="2990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Oral Language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3835440" y="1038240"/>
            <a:ext cx="4221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Reading and Writing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8" name="Rectangle 20"/>
          <p:cNvSpPr/>
          <p:nvPr/>
        </p:nvSpPr>
        <p:spPr>
          <a:xfrm>
            <a:off x="784080" y="1981080"/>
            <a:ext cx="188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honology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3962520" y="1833480"/>
            <a:ext cx="4827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Alphabetic principle (how sounds in spoken words are represented by letters in written words)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808560" y="3168720"/>
            <a:ext cx="199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Vocabulary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3961800" y="3029040"/>
            <a:ext cx="3198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91960" indent="-291960">
              <a:buClr>
                <a:srgbClr val="bf2476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Listening comprehension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marL="291960" indent="-291960">
              <a:buClr>
                <a:srgbClr val="bf2476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Word recognition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marL="291960" indent="-291960">
              <a:buClr>
                <a:srgbClr val="bf2476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Reading comprehension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776520" y="4378320"/>
            <a:ext cx="170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Grammar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3961800" y="4292640"/>
            <a:ext cx="3198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91960" indent="-291960">
              <a:buClr>
                <a:srgbClr val="bf24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Listening comprehension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marL="291960" indent="-291960">
              <a:buClr>
                <a:srgbClr val="bf24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Reading comprehension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770040" y="5504040"/>
            <a:ext cx="2773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agmatics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3951720" y="5251320"/>
            <a:ext cx="4640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91960" indent="-291960">
              <a:buClr>
                <a:srgbClr val="bf24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Listening and reading comprehension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marL="291960" indent="-291960">
              <a:buClr>
                <a:srgbClr val="bf24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Written composition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marL="291960" indent="-291960">
              <a:buClr>
                <a:srgbClr val="bf24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Understanding what teachers say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The Language-Literacy Connection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876240"/>
            <a:ext cx="3554280" cy="5673960"/>
          </a:xfrm>
          <a:prstGeom prst="rect">
            <a:avLst/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58" name="Picture 5" descr="TEKS_TRA_outline.png"/>
          <p:cNvPicPr/>
          <p:nvPr/>
        </p:nvPicPr>
        <p:blipFill>
          <a:blip r:embed="rId1"/>
          <a:stretch/>
        </p:blipFill>
        <p:spPr>
          <a:xfrm>
            <a:off x="301680" y="907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"/>
          <p:cNvSpPr/>
          <p:nvPr/>
        </p:nvSpPr>
        <p:spPr>
          <a:xfrm>
            <a:off x="628560" y="1563840"/>
            <a:ext cx="317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d486"/>
                </a:solidFill>
                <a:latin typeface="Hoefler Text"/>
              </a:rPr>
              <a:t>T</a:t>
            </a:r>
            <a:r>
              <a:rPr b="1" i="1" lang="en-US" sz="600" spc="-1" strike="noStrike">
                <a:solidFill>
                  <a:srgbClr val="fdd486"/>
                </a:solidFill>
                <a:latin typeface="Hoefler Text"/>
              </a:rPr>
              <a:t> </a:t>
            </a:r>
            <a:r>
              <a:rPr b="1" lang="en-US" sz="1800" spc="-1" strike="noStrike">
                <a:solidFill>
                  <a:srgbClr val="fdd486"/>
                </a:solidFill>
                <a:latin typeface="Hoefler Text"/>
              </a:rPr>
              <a:t>EXAS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d486"/>
                </a:solidFill>
                <a:latin typeface="Hoefler Text"/>
              </a:rPr>
              <a:t>E</a:t>
            </a:r>
            <a:r>
              <a:rPr b="1" lang="en-US" sz="1800" spc="-1" strike="noStrike">
                <a:solidFill>
                  <a:srgbClr val="fdd486"/>
                </a:solidFill>
                <a:latin typeface="Hoefler Text"/>
              </a:rPr>
              <a:t>SSENTIAL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	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	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d486"/>
                </a:solidFill>
                <a:latin typeface="Hoefler Text"/>
              </a:rPr>
              <a:t>K</a:t>
            </a:r>
            <a:r>
              <a:rPr b="1" lang="en-US" sz="1800" spc="-1" strike="noStrike">
                <a:solidFill>
                  <a:srgbClr val="fdd486"/>
                </a:solidFill>
                <a:latin typeface="Hoefler Text"/>
              </a:rPr>
              <a:t>NOWLEDGE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r>
              <a:rPr b="1" lang="en-US" sz="1600" spc="-1" strike="noStrike">
                <a:solidFill>
                  <a:srgbClr val="fdd486"/>
                </a:solidFill>
                <a:latin typeface="Hoefler Text"/>
              </a:rPr>
              <a:t>AND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	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d486"/>
                </a:solidFill>
                <a:latin typeface="Hoefler Text"/>
              </a:rPr>
              <a:t>S</a:t>
            </a:r>
            <a:r>
              <a:rPr b="1" lang="en-US" sz="1800" spc="-1" strike="noStrike">
                <a:solidFill>
                  <a:srgbClr val="fdd486"/>
                </a:solidFill>
                <a:latin typeface="Hoefler Text"/>
              </a:rPr>
              <a:t>KILLS</a:t>
            </a:r>
            <a:r>
              <a:rPr b="1" lang="en-US" sz="2000" spc="-1" strike="noStrike">
                <a:solidFill>
                  <a:srgbClr val="fdd486"/>
                </a:solidFill>
                <a:latin typeface="Hoefler Text"/>
              </a:rPr>
              <a:t> (TEKS)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d486"/>
                </a:solidFill>
                <a:latin typeface="Hoefler Text"/>
              </a:rPr>
              <a:t>Texas Essential Knowledge and Skills</a:t>
            </a:r>
            <a:endParaRPr b="1" lang="en-US" sz="30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09520" y="1258560"/>
            <a:ext cx="496116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1(27) Students use comprehension skills to listen attentively to others in formal and informal settings. 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1(28) Students speak clearly and to the point, using the conventions of language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1(29) Students work productively with others in teams. 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62" name="Picture 13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NotebookIcon.png"/>
          <p:cNvPicPr/>
          <p:nvPr/>
        </p:nvPicPr>
        <p:blipFill>
          <a:blip r:embed="rId3"/>
          <a:stretch/>
        </p:blipFill>
        <p:spPr>
          <a:xfrm>
            <a:off x="8442360" y="1341360"/>
            <a:ext cx="79380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487440" y="1827360"/>
            <a:ext cx="408780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Engage students in extended conversations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5960" indent="-34596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Encourage students to tell and retell stories and events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5960" indent="-34596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Discuss a wide range of topics and word meanings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5960" indent="-34596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Use new and unusual words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5960" indent="-34596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Ask open-ended questions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5960" indent="-34596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Give explicit guidance in vocabulary, grammar, and pronunciation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5960" indent="-34596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Encourage language play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4651200" y="1827360"/>
            <a:ext cx="3986280" cy="50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Explore and experiment with language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3080" indent="-34308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Name and describe objects, actions, emotions, and locations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3080" indent="-34308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Ask and answer </a:t>
            </a:r>
            <a:r>
              <a:rPr b="1" i="1" lang="en-US" sz="1900" spc="-1" strike="noStrike">
                <a:solidFill>
                  <a:srgbClr val="bf2476"/>
                </a:solidFill>
                <a:latin typeface="Tahoma"/>
              </a:rPr>
              <a:t>wh</a:t>
            </a: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- and </a:t>
            </a:r>
            <a:r>
              <a:rPr b="1" i="1" lang="en-US" sz="1900" spc="-1" strike="noStrike">
                <a:solidFill>
                  <a:srgbClr val="bf2476"/>
                </a:solidFill>
                <a:latin typeface="Tahoma"/>
              </a:rPr>
              <a:t>how</a:t>
            </a: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 questions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3080" indent="-34308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Hear appropriate models of language use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  <a:p>
            <a:pPr marL="343080" indent="-343080">
              <a:spcBef>
                <a:spcPts val="1188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2476"/>
                </a:solidFill>
                <a:latin typeface="Tahoma"/>
              </a:rPr>
              <a:t>Discuss topics of interest to them</a:t>
            </a:r>
            <a:endParaRPr b="0" lang="en-US" sz="19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A Language-Centered Classroom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507960" y="1041480"/>
            <a:ext cx="3968640" cy="68904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666720" y="1155600"/>
            <a:ext cx="3729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Teachers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9" name="AutoShape 24"/>
          <p:cNvSpPr/>
          <p:nvPr/>
        </p:nvSpPr>
        <p:spPr>
          <a:xfrm>
            <a:off x="4697280" y="1046160"/>
            <a:ext cx="3970440" cy="68904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4856040" y="1160640"/>
            <a:ext cx="3730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Students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71" name="Picture 25" descr="videooriginal.jpg"/>
          <p:cNvPicPr/>
          <p:nvPr/>
        </p:nvPicPr>
        <p:blipFill>
          <a:blip r:embed="rId1"/>
          <a:stretch/>
        </p:blipFill>
        <p:spPr>
          <a:xfrm>
            <a:off x="8427960" y="598320"/>
            <a:ext cx="68256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576360" y="1887480"/>
            <a:ext cx="55069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spcBef>
                <a:spcPts val="550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Higher-quality verbal interactions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  <a:p>
            <a:pPr marL="344520" indent="-344520">
              <a:spcBef>
                <a:spcPts val="550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More cooperative play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  <a:p>
            <a:pPr marL="344520" indent="-344520">
              <a:spcBef>
                <a:spcPts val="550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Greater use of language-related activities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581280" y="4535640"/>
            <a:ext cx="45975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spcBef>
                <a:spcPts val="550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oor language interactions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  <a:p>
            <a:pPr marL="344520" indent="-344520">
              <a:spcBef>
                <a:spcPts val="550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Less use of language-related activities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Optimal Language Interaction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5" name="AutoShape 24"/>
          <p:cNvSpPr/>
          <p:nvPr/>
        </p:nvSpPr>
        <p:spPr>
          <a:xfrm>
            <a:off x="507960" y="1143000"/>
            <a:ext cx="5265720" cy="68904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666720" y="1257480"/>
            <a:ext cx="49500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dd486"/>
                </a:solidFill>
                <a:latin typeface="Hoefler Text"/>
                <a:ea typeface="Hoefler Text"/>
              </a:rPr>
              <a:t>Small, partitioned spaces</a:t>
            </a:r>
            <a:endParaRPr b="0" lang="en-US" sz="2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3579840" y="3824280"/>
            <a:ext cx="4649760" cy="68904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3738600" y="3938760"/>
            <a:ext cx="439884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dd486"/>
                </a:solidFill>
                <a:latin typeface="Hoefler Text"/>
                <a:ea typeface="Hoefler Text"/>
              </a:rPr>
              <a:t>Large, open spaces</a:t>
            </a:r>
            <a:endParaRPr b="0" lang="en-US" sz="26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15"/>
          <p:cNvSpPr/>
          <p:nvPr/>
        </p:nvSpPr>
        <p:spPr>
          <a:xfrm flipH="1" rot="21222600">
            <a:off x="-491400" y="752400"/>
            <a:ext cx="3257640" cy="232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97080" y="3732120"/>
            <a:ext cx="6324480" cy="2210040"/>
          </a:xfrm>
          <a:prstGeom prst="rtTriangle">
            <a:avLst/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3176640" y="6145200"/>
            <a:ext cx="3403440" cy="0"/>
          </a:xfrm>
          <a:prstGeom prst="line">
            <a:avLst/>
          </a:prstGeom>
          <a:ln w="38160">
            <a:solidFill>
              <a:srgbClr val="bf24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2" name="Text Box 5"/>
          <p:cNvSpPr/>
          <p:nvPr/>
        </p:nvSpPr>
        <p:spPr>
          <a:xfrm flipH="1" rot="16200000">
            <a:off x="-659160" y="4516920"/>
            <a:ext cx="317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f2476"/>
                </a:solidFill>
                <a:latin typeface="Tahoma"/>
              </a:rPr>
              <a:t>Amount of Support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093680" y="5900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468"/>
                </a:solidFill>
                <a:latin typeface="Tahoma"/>
              </a:rPr>
              <a:t>Introduced</a:t>
            </a:r>
            <a:r>
              <a:rPr b="1" lang="en-US" sz="1800" spc="-1" strike="noStrike">
                <a:solidFill>
                  <a:srgbClr val="2f846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6580080" y="59230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468"/>
                </a:solidFill>
                <a:latin typeface="Tahoma"/>
              </a:rPr>
              <a:t>Learned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135080" y="32209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468"/>
                </a:solidFill>
                <a:latin typeface="Tahoma"/>
              </a:rPr>
              <a:t>Teacher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257120" y="3723840"/>
            <a:ext cx="6345720" cy="2206080"/>
          </a:xfrm>
          <a:prstGeom prst="line">
            <a:avLst/>
          </a:prstGeom>
          <a:ln w="76320">
            <a:solidFill>
              <a:srgbClr val="bf24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472080" y="51055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468"/>
                </a:solidFill>
                <a:latin typeface="Tahoma"/>
              </a:rPr>
              <a:t>Independent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4152960" y="6159600"/>
            <a:ext cx="162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f2476"/>
                </a:solidFill>
                <a:latin typeface="Tahoma"/>
              </a:rPr>
              <a:t>Knowledge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951280" y="1120680"/>
            <a:ext cx="551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djust instruction to account </a:t>
            </a:r>
            <a:br>
              <a:rPr sz="2800"/>
            </a:b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r the differences in students’ knowledge and experiences.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507960" y="2908440"/>
            <a:ext cx="81360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Diverse Experience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469800" y="1487520"/>
            <a:ext cx="24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486"/>
                </a:solidFill>
                <a:latin typeface="Hoefler Text"/>
              </a:rPr>
              <a:t>Scaffold</a:t>
            </a:r>
            <a:endParaRPr b="0" lang="en-US" sz="3600" spc="-1" strike="noStrike">
              <a:solidFill>
                <a:srgbClr val="5c0071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1085760" y="1447920"/>
            <a:ext cx="738684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spcBef>
                <a:spcPts val="1500"/>
              </a:spcBef>
              <a:buClr>
                <a:srgbClr val="5c00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Scaffolding Students’ Language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174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odel the use of extended language.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4520" indent="-344520">
              <a:spcBef>
                <a:spcPts val="174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Use questions and prompts (or cues).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4520" indent="-344520">
              <a:spcBef>
                <a:spcPts val="174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state and expand ideas using new vocabulary and sentence pattern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4520" indent="-344520">
              <a:spcBef>
                <a:spcPts val="174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quest clarification and elabora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4520" indent="-344520">
              <a:spcBef>
                <a:spcPts val="174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omote questions among student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4520" indent="-344520">
              <a:spcBef>
                <a:spcPts val="174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ovide feedback to encourage, explain, and evaluate respons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96" name="Picture 6" descr="Handout.png"/>
          <p:cNvPicPr/>
          <p:nvPr/>
        </p:nvPicPr>
        <p:blipFill>
          <a:blip r:embed="rId1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7" name="Picture 9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16:06Z</dcterms:created>
  <dc:creator>Elana Wakeman</dc:creator>
  <dc:description/>
  <dc:language>en-US</dc:language>
  <cp:lastModifiedBy>Matthew Slater</cp:lastModifiedBy>
  <cp:lastPrinted>2009-10-06T16:35:00Z</cp:lastPrinted>
  <dcterms:modified xsi:type="dcterms:W3CDTF">2016-06-10T23:08:48Z</dcterms:modified>
  <cp:revision>365</cp:revision>
  <dc:subject/>
  <dc:title>Overview of the Kindergarten Teacher Reading Academy (KTRA)</dc:title>
</cp:coreProperties>
</file>