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3"/>
          <p:cNvSpPr/>
          <p:nvPr/>
        </p:nvSpPr>
        <p:spPr>
          <a:xfrm>
            <a:off x="161640" y="881064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9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00280" y="914400"/>
            <a:ext cx="5257800" cy="3943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44B1-192D-43C0-804D-4BC111468555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634-300E-41EF-9B5E-8DA40A30691F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5280-F0D9-4D1A-A6F5-117265B6FDCD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ffective li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1F2B-6B10-4FE8-B0B9-3FCB72441599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ED66-4516-401C-8B49-D38FC5CF5185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6C4B-3AEA-41D2-BEB1-944B687C67D3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DC48-049E-4AEE-A326-9C631ADF2CD5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1362-3E4A-4DA2-B9C6-72576317D695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6E91-4164-4729-84FE-EBFEB50008A0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ELLS in Texas – PEIMS 2015-2016, avaiiable at http://elltx.org/snapshot.html </a:t>
            </a:r>
            <a:endParaRPr b="1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17C-F1F7-449A-9358-339A15529DB1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CABC-2744-44B7-96AD-5A5E4E13D74E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D3F-C7F9-447E-8BD7-FD67618F5D8E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D0A-596E-4B9D-B145-6C054D8E98E8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F01-BFAF-4FCD-A63C-9C37FD74CB43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E28F-1813-4166-8902-C5A053EB3C01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437-FE9B-4C39-8303-4EB221AF1B96}" type="slidenum">
              <a:rPr b="0" lang="en-US" sz="2800" spc="-1" strike="noStrike">
                <a:solidFill>
                  <a:srgbClr val="5c0071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4C6-FBD7-4C63-9360-BDA42282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45B-FB7A-47A0-85A8-079AD0F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67B-D50D-4F1E-A3E1-7406962C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0B5-E4B1-4924-9447-80882892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3F2-4BF1-4EE7-ABC0-685C4C9B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FA4-844D-43CE-9A56-9B11E361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189-3DB4-4619-B96B-04CADE1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F3D-D2D5-4C09-A7A5-45C40AB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F2F-8E1B-499E-AD79-4F2192D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E5A-A8CF-4F08-BD40-6AEA1D2B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CDB-B709-451A-9F18-92332CF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B26-7ADF-4A14-8137-FB34F48B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E24B-4258-46BA-9E36-AFDE6DA5F820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37600" y="661176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English Language Learner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3121-45FB-47C4-955B-C843EF299F50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37600" y="661176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English Language Learner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2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4B1-57CB-452F-AEAD-F2FC071A1C1A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37600" y="661176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English Language Learner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EAE4-E59E-4B60-A141-30A7E98D89C5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EFDC-0DE0-4D01-964A-99CD120CCAF7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37600" y="661176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English Language Learner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E68-0F6A-4B9B-857B-983F471C27B6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37600" y="661176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English Language Learner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303-9C89-4C92-BDAB-1B2B3F69B1A1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Stages of Second-Language Development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9120" y="5343480"/>
            <a:ext cx="2819520" cy="41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Preproduction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238480" y="364176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Early Production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 lvl="2" marL="228600">
              <a:lnSpc>
                <a:spcPct val="100000"/>
              </a:lnSpc>
              <a:buClr>
                <a:srgbClr val="bf247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037040" y="2316240"/>
            <a:ext cx="2819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Speech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Emergence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6215040" y="2254320"/>
            <a:ext cx="0" cy="88884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2" name="Line 7"/>
          <p:cNvSpPr/>
          <p:nvPr/>
        </p:nvSpPr>
        <p:spPr>
          <a:xfrm flipH="1">
            <a:off x="4368600" y="3124080"/>
            <a:ext cx="186372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4378320" y="3110040"/>
            <a:ext cx="0" cy="132876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2498400" y="4408560"/>
            <a:ext cx="186516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533680" y="4394160"/>
            <a:ext cx="0" cy="146376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492120" y="5832360"/>
            <a:ext cx="202392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7" name="AutoShape 12"/>
          <p:cNvSpPr/>
          <p:nvPr/>
        </p:nvSpPr>
        <p:spPr>
          <a:xfrm rot="19635000">
            <a:off x="2219400" y="4219200"/>
            <a:ext cx="6543720" cy="293760"/>
          </a:xfrm>
          <a:prstGeom prst="rightArrow">
            <a:avLst>
              <a:gd name="adj1" fmla="val 50000"/>
              <a:gd name="adj2" fmla="val 172534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6189840" y="2276640"/>
            <a:ext cx="230184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5892840" y="1471680"/>
            <a:ext cx="3397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Intermediate and 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Advanced Fluency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70" name="Picture 17" descr="Handout.png"/>
          <p:cNvPicPr/>
          <p:nvPr/>
        </p:nvPicPr>
        <p:blipFill>
          <a:blip r:embed="rId1"/>
          <a:stretch/>
        </p:blipFill>
        <p:spPr>
          <a:xfrm>
            <a:off x="848988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dd486"/>
                </a:solidFill>
                <a:latin typeface="Hoefler Text"/>
              </a:rPr>
              <a:t>Development of Second-Language Speech Production</a:t>
            </a:r>
            <a:endParaRPr b="1" lang="en-US" sz="25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54040" y="2120760"/>
            <a:ext cx="27828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2f8468"/>
                </a:solidFill>
                <a:latin typeface="Tahoma"/>
              </a:rPr>
              <a:t>Simple grammatical structures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Plural errors: “many book,” “some book”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Inconsistent verb forms: “I walk home” (past tense) instead of “I walked home.”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459240" y="1874880"/>
            <a:ext cx="265428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2f8468"/>
                </a:solidFill>
                <a:latin typeface="Tahoma"/>
              </a:rPr>
              <a:t>Overgeneralizations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Misuse of irregular verbs: “goed,” “readed”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Misunderstanding of negation: “I no have paper.”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200640" y="1068480"/>
            <a:ext cx="24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2f8468"/>
                </a:solidFill>
                <a:latin typeface="Tahoma"/>
              </a:rPr>
              <a:t>Closer approximations of second language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indent="3240"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Input internalized </a:t>
            </a:r>
            <a:br>
              <a:rPr sz="1800"/>
            </a:b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and adjustments made in second language use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indent="3240"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More elaborate sentence structures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  <a:p>
            <a:pPr indent="3240">
              <a:spcBef>
                <a:spcPts val="451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1" lang="en-US" sz="1800" spc="-1" strike="noStrike">
                <a:solidFill>
                  <a:srgbClr val="bf2476"/>
                </a:solidFill>
                <a:latin typeface="Tahoma"/>
              </a:rPr>
              <a:t>Increase in vocabulary use</a:t>
            </a:r>
            <a:endParaRPr b="0" lang="en-US" sz="1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417840" y="5429160"/>
            <a:ext cx="0" cy="42876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6" name="Line 11"/>
          <p:cNvSpPr/>
          <p:nvPr/>
        </p:nvSpPr>
        <p:spPr>
          <a:xfrm flipH="1">
            <a:off x="491760" y="5832360"/>
            <a:ext cx="295740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7" name="AutoShape 12"/>
          <p:cNvSpPr/>
          <p:nvPr/>
        </p:nvSpPr>
        <p:spPr>
          <a:xfrm rot="21230400">
            <a:off x="2852640" y="5689080"/>
            <a:ext cx="5869080" cy="209880"/>
          </a:xfrm>
          <a:prstGeom prst="rightArrow">
            <a:avLst>
              <a:gd name="adj1" fmla="val 50000"/>
              <a:gd name="adj2" fmla="val 172315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6334200" y="5046840"/>
            <a:ext cx="0" cy="42840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3408120" y="5450040"/>
            <a:ext cx="295740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80" name="Line 11"/>
          <p:cNvSpPr/>
          <p:nvPr/>
        </p:nvSpPr>
        <p:spPr>
          <a:xfrm flipH="1">
            <a:off x="6333840" y="5076720"/>
            <a:ext cx="2306520" cy="0"/>
          </a:xfrm>
          <a:prstGeom prst="line">
            <a:avLst/>
          </a:prstGeom>
          <a:ln w="57240">
            <a:solidFill>
              <a:srgbClr val="bf2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dd486"/>
                </a:solidFill>
                <a:latin typeface="Hoefler Text"/>
              </a:rPr>
              <a:t>Developing Academic English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77880" y="3179880"/>
          <a:ext cx="7777080" cy="2654280"/>
        </p:xfrm>
        <a:graphic>
          <a:graphicData uri="http://schemas.openxmlformats.org/drawingml/2006/table">
            <a:tbl>
              <a:tblPr/>
              <a:tblGrid>
                <a:gridCol w="1474920"/>
                <a:gridCol w="1933560"/>
                <a:gridCol w="2077920"/>
                <a:gridCol w="2290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0c980"/>
                          </a:solidFill>
                          <a:latin typeface="Tahoma"/>
                        </a:rPr>
                        <a:t>At Home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846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0c980"/>
                          </a:solidFill>
                          <a:latin typeface="Tahoma"/>
                        </a:rPr>
                        <a:t>Beginning of School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846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0c980"/>
                          </a:solidFill>
                          <a:latin typeface="Tahoma"/>
                        </a:rPr>
                        <a:t>Later in School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8468"/>
                    </a:solidFill>
                  </a:tcPr>
                </a:tc>
              </a:tr>
              <a:tr h="36648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English-Only Speakers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First register: 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Second register: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Casual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Academic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Refined academic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ELLs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First register: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Casual native language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Second register: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Casual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Third register: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f8468"/>
                          </a:solidFill>
                          <a:latin typeface="Tahoma"/>
                        </a:rPr>
                        <a:t>Academic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Box 6"/>
          <p:cNvSpPr/>
          <p:nvPr/>
        </p:nvSpPr>
        <p:spPr>
          <a:xfrm>
            <a:off x="615960" y="1392120"/>
            <a:ext cx="78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ocial register vs. academic register</a:t>
            </a:r>
            <a:br>
              <a:rPr sz="2400"/>
            </a:b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  <a:p>
            <a:pPr marL="343080" indent="-343080">
              <a:buClr>
                <a:srgbClr val="bf24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Proficiency in academic English is important in predicting the academic success of ELLs.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dd486"/>
                </a:solidFill>
                <a:latin typeface="Hoefler Text"/>
              </a:rPr>
              <a:t>ELLs and English Literacy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English literacy development is an important and concurrent element of second-language acquisi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Effective literacy instruction for ELLs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Academically soun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Culturally responsive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Linguistically accommodate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87" name="Picture 9" descr="Handout.png"/>
          <p:cNvPicPr/>
          <p:nvPr/>
        </p:nvPicPr>
        <p:blipFill>
          <a:blip r:embed="rId1"/>
          <a:stretch/>
        </p:blipFill>
        <p:spPr>
          <a:xfrm>
            <a:off x="8489880" y="6652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dd486"/>
                </a:solidFill>
                <a:latin typeface="Hoefler Text"/>
              </a:rPr>
              <a:t>Analyzing ELL Instruct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Turn to Handout 3: English Language Learner Instruction Scenario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Read the scenario that was assigned to your group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Decide whether the instruction depicted needs to be improved and how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Prepare to shar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90" name="Picture 5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1" name="Picture 4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dd486"/>
                </a:solidFill>
                <a:latin typeface="Hoefler Text"/>
              </a:rPr>
              <a:t>Spanish Language Arts and Reading TEK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A strong native language foundation has a positive impact on future English literac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The Spanish Language Arts and Reading TEKS help teachers provide high-quality Spanish literacy instruct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dd486"/>
                </a:solidFill>
                <a:latin typeface="Hoefler Text"/>
              </a:rPr>
              <a:t>English Language Proficiency Standards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bf2476"/>
                </a:solidFill>
                <a:latin typeface="Tahoma"/>
              </a:rPr>
              <a:t>The ELPS are language development standards that must be implemented as an integral part of instruction in the TEKS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bf2476"/>
                </a:solidFill>
                <a:latin typeface="Tahoma"/>
              </a:rPr>
              <a:t>Student expectations are grouped under the four domains of language development: listening, speaking, reading, and writing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bf2476"/>
                </a:solidFill>
                <a:latin typeface="Tahoma"/>
              </a:rPr>
              <a:t>Planning linguistically accommodated instruction that addresses the ELPS allows ELLs to develop English while meeting the TEKS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dd486"/>
                </a:solidFill>
                <a:latin typeface="Hoefler Text"/>
              </a:rPr>
              <a:t>ELPS and TEK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f2476"/>
                </a:solidFill>
                <a:latin typeface="Tahoma"/>
              </a:rPr>
              <a:t>Locate the ELPS Academy booklet and the 12 components and TEKS form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ith a partner, find one student expectation and its corresponding domain for each of the components of beginning reading instruction.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98" name="Picture 5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NotebookIcon.png"/>
          <p:cNvPicPr/>
          <p:nvPr/>
        </p:nvPicPr>
        <p:blipFill>
          <a:blip r:embed="rId2"/>
          <a:stretch/>
        </p:blipFill>
        <p:spPr>
          <a:xfrm>
            <a:off x="8442360" y="1341360"/>
            <a:ext cx="7938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Remember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earning a second language—and learning in a second language—is mentally exhausting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LLs do twice the cognitive work of native English speakers. ELLs acquire new conceptual knowledge while attending to the sounds, meanings, and structures of a new languag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Language Diversity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hildren acquire language within a variety of cultural and linguistic settings and in the context of their homes and communiti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fdd486"/>
                </a:solidFill>
                <a:latin typeface="Hoefler Text"/>
              </a:rPr>
              <a:t>Texas ELLs: Demographics </a:t>
            </a:r>
            <a:br>
              <a:rPr sz="2900"/>
            </a:br>
            <a:endParaRPr b="1" lang="en-US" sz="2900" spc="-1" strike="noStrike">
              <a:solidFill>
                <a:srgbClr val="fdd486"/>
              </a:solidFill>
              <a:latin typeface="Hoefler Text"/>
            </a:endParaRPr>
          </a:p>
        </p:txBody>
      </p:sp>
      <p:graphicFrame>
        <p:nvGraphicFramePr>
          <p:cNvPr id="223" name="Content Placeholder 11"/>
          <p:cNvGraphicFramePr/>
          <p:nvPr/>
        </p:nvGraphicFramePr>
        <p:xfrm>
          <a:off x="4597560" y="1163520"/>
          <a:ext cx="414000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Content Placeholder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1163520"/>
                    <a:ext cx="4140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Content Placeholder 10"/>
          <p:cNvGraphicFramePr/>
          <p:nvPr/>
        </p:nvGraphicFramePr>
        <p:xfrm>
          <a:off x="406440" y="1200240"/>
          <a:ext cx="4140000" cy="497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Content Placeholder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1200240"/>
                    <a:ext cx="41400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fdd486"/>
                </a:solidFill>
                <a:latin typeface="Hoefler Text"/>
              </a:rPr>
              <a:t>Texas ELLs: Demographics (cont.) </a:t>
            </a:r>
            <a:br>
              <a:rPr sz="2900"/>
            </a:br>
            <a:endParaRPr b="1" lang="en-US" sz="2900" spc="-1" strike="noStrike">
              <a:solidFill>
                <a:srgbClr val="fdd486"/>
              </a:solidFill>
              <a:latin typeface="Hoefler Text"/>
            </a:endParaRPr>
          </a:p>
        </p:txBody>
      </p:sp>
      <p:graphicFrame>
        <p:nvGraphicFramePr>
          <p:cNvPr id="228" name="Content Placeholder 5"/>
          <p:cNvGraphicFramePr/>
          <p:nvPr/>
        </p:nvGraphicFramePr>
        <p:xfrm>
          <a:off x="406440" y="1143000"/>
          <a:ext cx="4763880" cy="53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3000"/>
                    <a:ext cx="4763880" cy="53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 txBox="1"/>
          <p:nvPr/>
        </p:nvSpPr>
        <p:spPr>
          <a:xfrm>
            <a:off x="5149440" y="1361880"/>
            <a:ext cx="3809880" cy="24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Other languages: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1.69% Vietnamese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.98% Arabic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.45% Urdu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.42% Mandarin Chinese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.34% Burmese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Who Are Our ELLs?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LLs are language-minority students who are exposed to or use a language at home other than English and have limited English skill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embership is expected to be temporar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LLs are a diverse group who come from many different socioeconomic, cultural, and language background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Three Distinct Groups of ELL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285840" y="1138320"/>
            <a:ext cx="853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Classification as an ELL Does Not Tell the Whole Story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84200" y="1782720"/>
          <a:ext cx="8205840" cy="3924360"/>
        </p:xfrm>
        <a:graphic>
          <a:graphicData uri="http://schemas.openxmlformats.org/drawingml/2006/table">
            <a:tbl>
              <a:tblPr/>
              <a:tblGrid>
                <a:gridCol w="2714760"/>
                <a:gridCol w="2746080"/>
                <a:gridCol w="2745000"/>
              </a:tblGrid>
              <a:tr h="6426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0c980"/>
                          </a:solidFill>
                          <a:latin typeface="Tahoma"/>
                        </a:rPr>
                        <a:t>Early Immigrants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4cc82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8468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0c980"/>
                          </a:solidFill>
                          <a:latin typeface="Tahoma"/>
                        </a:rPr>
                        <a:t>Recent Immigrants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f4cc82"/>
                      </a:solidFill>
                    </a:lnL>
                    <a:lnR w="5760">
                      <a:solidFill>
                        <a:srgbClr val="f4cc82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8468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0c980"/>
                          </a:solidFill>
                          <a:latin typeface="Tahoma"/>
                        </a:rPr>
                        <a:t>U.S.-Born Language-Minority Students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f4cc82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8468"/>
                    </a:solidFill>
                  </a:tcPr>
                </a:tc>
              </a:tr>
              <a:tr h="3281760"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Arrive before age 7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No prior school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May need up to five years to fully develop academic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Arrive at school age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May have had prior schooling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May have literacy skills in their native language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Born in the United States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May have little literacy in their native language  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buClr>
                          <a:srgbClr val="bf2476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Little or some exposure to English</a:t>
                      </a: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7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dd486"/>
                </a:solidFill>
                <a:latin typeface="Hoefler Text"/>
              </a:rPr>
              <a:t>Different Need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70120" y="1258560"/>
            <a:ext cx="7454880" cy="38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ELLs have different needs based on the following: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he extent and type of literacy practices at home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he development of literacy skills and prior formal schooling in their native language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he instruction or formal schooling in English they have received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39" name="AutoShape 24"/>
          <p:cNvSpPr/>
          <p:nvPr/>
        </p:nvSpPr>
        <p:spPr>
          <a:xfrm>
            <a:off x="709560" y="5226120"/>
            <a:ext cx="7772400" cy="95076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5302080"/>
            <a:ext cx="74818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ELLs have strengths and proficiencies in their native language that may be invisible to teachers.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41" name="Picture 5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Second-Language Developmen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-language development is a gradual and complex proces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LLs of all language groups develop their second language similarl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LLs vary in how quickly they become proficient in English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709560" y="4707000"/>
            <a:ext cx="7772400" cy="128268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838080" y="4792680"/>
            <a:ext cx="74818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The </a:t>
            </a:r>
            <a:r>
              <a:rPr b="1" i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route</a:t>
            </a: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 of acquisition is consistent for ELLs with different native languages, but the </a:t>
            </a:r>
            <a:r>
              <a:rPr b="1" i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rate</a:t>
            </a: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 of progress can vary considerably. 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dd486"/>
                </a:solidFill>
                <a:latin typeface="Hoefler Text"/>
              </a:rPr>
              <a:t>Four Language Domain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1665000" y="2603520"/>
            <a:ext cx="164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istening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1764720" y="3181320"/>
            <a:ext cx="145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ading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1044720" y="1776240"/>
            <a:ext cx="291456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203480" y="1890720"/>
            <a:ext cx="2573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Receptive skills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5675760" y="2631960"/>
            <a:ext cx="162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peaking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5823360" y="3208320"/>
            <a:ext cx="133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riting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3" name="AutoShape 24"/>
          <p:cNvSpPr/>
          <p:nvPr/>
        </p:nvSpPr>
        <p:spPr>
          <a:xfrm>
            <a:off x="5032440" y="1805040"/>
            <a:ext cx="2914560" cy="68904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043600" y="1919160"/>
            <a:ext cx="29131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Expressive skills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5" name="AutoShape 24"/>
          <p:cNvSpPr/>
          <p:nvPr/>
        </p:nvSpPr>
        <p:spPr>
          <a:xfrm>
            <a:off x="733320" y="4614840"/>
            <a:ext cx="7772400" cy="950760"/>
          </a:xfrm>
          <a:prstGeom prst="roundRect">
            <a:avLst>
              <a:gd name="adj" fmla="val 16667"/>
            </a:avLst>
          </a:prstGeom>
          <a:solidFill>
            <a:srgbClr val="2f8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861840" y="4718160"/>
            <a:ext cx="7482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Receptive language tends to develop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 </a:t>
            </a: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more quickly than expressive language. 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21T18:10:42Z</dcterms:modified>
  <cp:revision>362</cp:revision>
  <dc:subject/>
  <dc:title>Overview of the Kindergarten Teacher Reading Academy (KTRA)</dc:title>
</cp:coreProperties>
</file>