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6FA-539C-43A2-B1E5-CC644CDF140F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AB6-43B1-4C13-95B2-F7B1FD151CB6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BA3-283D-41EA-97E1-12ED49B804F6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F9CF-5887-4F23-A9EE-7697CCE9C21B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D95-CA1B-4F7A-943C-865EAEE89554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BC1E-3E63-4514-BDD6-D81B2E3642B6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Book Antiqua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C1DD-59A3-4C86-BF1E-05DC03ACD309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D764-E861-4EC7-8A54-052E26C21C50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8699-2533-401B-A321-E67E5CC300CF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FCA-0647-426B-97C9-3CDEE5AC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2B4-0596-4663-AE83-3371300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4C0-B498-4E2F-9024-ADE55E3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B81-CC00-4416-A756-40C43C1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195-4973-4068-8E64-71882AA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F69-0A56-4EF8-8FD8-5CCB410C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3C1-88D4-4502-B48A-68B1E6F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FAD-9D9E-49D7-9D94-0619ADD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FA0-79CB-4307-9986-B78BEC9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9EA-E3E0-4918-9FA6-B6082A2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F22-EE83-416B-9C65-EE841409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F7F-6A0C-48D8-B9BD-59367F89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F34-D634-4527-A6AE-2FD1D5FC2561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54880" y="661176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Features of Effective Instruct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C545-AFCA-4718-B8C1-06BE9858194E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54880" y="661176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Features of Effective Instruct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3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87D1-8170-4578-80C3-BE1D181F491B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54880" y="661176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Features of Effective Instruct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449E-513D-4D07-B369-08BF96FFEFA8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9DE-2D94-4F2E-8E70-6BFDD6159C9A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54880" y="661176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Features of Effective Instruct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63E-1584-42D1-AB39-11D2CE3840A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54880" y="661176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Features of Effective Instruction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1C2-C4F8-4406-AD5F-70F51DE15B6F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hat to Look for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Clear instructional focu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Teacher modeling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Consistent language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Active participation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Student talk and engagement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ultiple example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Concrete example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ultiple grouping format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anipulative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Visual aids and cues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Systematic Instruction With Scaffolding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04880" y="1258560"/>
            <a:ext cx="76881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lect appropriate objectives and tasks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47080" indent="-394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gulate task complexit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47080" indent="-394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nticipate potential difficulti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refully sequence instruction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47080" indent="-394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ove from easier to more difficult skill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47080" indent="-394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Begin with higher-utility skill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47080" indent="-3942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Begin with what students already know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4" name="Picture 7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dd486"/>
                </a:solidFill>
                <a:latin typeface="Hoefler Text"/>
              </a:rPr>
              <a:t>Hallmarks of Systematic Instruction With Scaffolding</a:t>
            </a:r>
            <a:endParaRPr b="1" lang="en-US" sz="25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ystematic instruction: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Knowledge and skills presented in a logical order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Higher-utility skills presented before more difficult, less frequently used skills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caffolding: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omplex tasks broken down into simpler, smaller steps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upport extended and gradually removed as students become proficient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7" name="Picture 7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dd486"/>
                </a:solidFill>
                <a:latin typeface="Hoefler Text"/>
              </a:rPr>
              <a:t>Multiple Opportunities to Practice </a:t>
            </a:r>
            <a:br>
              <a:rPr sz="2500"/>
            </a:br>
            <a:r>
              <a:rPr b="1" lang="en-US" sz="2500" spc="-1" strike="noStrike">
                <a:solidFill>
                  <a:srgbClr val="fdd486"/>
                </a:solidFill>
                <a:latin typeface="Hoefler Text"/>
              </a:rPr>
              <a:t>and Respond</a:t>
            </a:r>
            <a:endParaRPr b="1" lang="en-US" sz="25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514440" y="1949400"/>
            <a:ext cx="8022960" cy="2198880"/>
          </a:xfrm>
          <a:prstGeom prst="roundRect">
            <a:avLst>
              <a:gd name="adj" fmla="val 7106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79600" y="2095560"/>
            <a:ext cx="784512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It may be true that “practice makes perfect.”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However, in education we know that practice makes permanent. </a:t>
            </a:r>
            <a:br>
              <a:rPr sz="2800"/>
            </a:br>
            <a:r>
              <a:rPr b="1" lang="en-US" sz="2800" spc="-1" strike="noStrike">
                <a:solidFill>
                  <a:srgbClr val="fdd486"/>
                </a:solidFill>
                <a:latin typeface="Hoefler Text"/>
                <a:ea typeface="Hoefler Text"/>
              </a:rPr>
              <a:t>Therefore, practice must be perfect.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ays to Practice and Respond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9160" y="1993680"/>
            <a:ext cx="4227480" cy="39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actice in a variety of ways and at various tim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actice related skill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Actively engage student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distributed practice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22320" y="1994040"/>
            <a:ext cx="4041720" cy="29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vide more items to practice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mpt choral respons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“think-pair-share.”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ave students work in pair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mpt physical respons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quick write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561960" y="1085760"/>
            <a:ext cx="3762360" cy="79560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720720" y="1103400"/>
            <a:ext cx="36036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Maximize student engagement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4492800" y="1109520"/>
            <a:ext cx="3956040" cy="79560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651200" y="1127160"/>
            <a:ext cx="3603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Increase opportunities to respond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58" name="Picture 9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9" name="Picture 10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Immediate and Corrective Feedback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341520" y="2490840"/>
            <a:ext cx="4865760" cy="36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valuative feedback = Judgmenta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682560" indent="-3427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rmative feedback = Descriptiv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62" name="AutoShape 9"/>
          <p:cNvSpPr/>
          <p:nvPr/>
        </p:nvSpPr>
        <p:spPr>
          <a:xfrm flipH="1">
            <a:off x="-629280" y="814320"/>
            <a:ext cx="3787560" cy="585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34800" y="2803680"/>
            <a:ext cx="285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c980"/>
                </a:solidFill>
                <a:latin typeface="Hoefler Text"/>
              </a:rPr>
              <a:t>Two types of feedback:</a:t>
            </a: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valuative Feedback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Giving rewards and punishment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pressing approval and disapprova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Formative Feedback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elling students they are right or wrong and describing why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elling students what they have and have not achieve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pecifying or implying a better way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Helping students develop ways to improv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ositive Feedback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Varied forms of feedback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Verba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Nonverba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ritte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Varied ways to share feedback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hole group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mall group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air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dividual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Growth Mindse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29920" y="2017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Not everybody is good at reading. Just do your best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hat’s OK. Reading may not be your strength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Don’t worry. You’ll get it if you just try harder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Good try!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06840" y="2009520"/>
            <a:ext cx="42069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When you learn how to read new words, it grows your reading brain!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288000" indent="-288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If you tell yourself ‘I’m not a good reader,’ just add the word </a:t>
            </a: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yet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 to the end of the sentence.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288000" indent="-288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The point isn’t to get it all right away. The point is to grow your understanding step by step. What can you try next?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73" name="Picture 10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24"/>
          <p:cNvSpPr/>
          <p:nvPr/>
        </p:nvSpPr>
        <p:spPr>
          <a:xfrm>
            <a:off x="561960" y="1085760"/>
            <a:ext cx="3762360" cy="79560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720720" y="1103400"/>
            <a:ext cx="36036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Fixed Mindset</a:t>
            </a:r>
            <a:br>
              <a:rPr sz="2400"/>
            </a:b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(What not to say)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6" name="AutoShape 24"/>
          <p:cNvSpPr/>
          <p:nvPr/>
        </p:nvSpPr>
        <p:spPr>
          <a:xfrm>
            <a:off x="4492800" y="1109520"/>
            <a:ext cx="3956040" cy="79560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51200" y="1127160"/>
            <a:ext cx="3603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Growth Mindset</a:t>
            </a:r>
            <a:br>
              <a:rPr sz="2400"/>
            </a:br>
            <a:r>
              <a:rPr b="1" lang="en-US" sz="2400" spc="-1" strike="noStrike">
                <a:solidFill>
                  <a:srgbClr val="f4cc82"/>
                </a:solidFill>
                <a:latin typeface="Hoefler Text"/>
                <a:ea typeface="Hoefler Text"/>
              </a:rPr>
              <a:t>(What to say)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Features of Effective Instru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plicit instruction with model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ystematic instruction with scaffold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ultiple opportunities to practice and respon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mmediate and corrective feedback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Feedback Transforms Learn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07960" y="1158480"/>
            <a:ext cx="51166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68880" indent="-335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ake responsibility for their learn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668880" indent="-335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Believe that they can lear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668880" indent="-335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Understand what they need to do differently to achiev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668880" indent="-335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alize that the hard work of using strategies improves their learn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0" name="AutoShape 9"/>
          <p:cNvSpPr/>
          <p:nvPr/>
        </p:nvSpPr>
        <p:spPr>
          <a:xfrm flipH="1">
            <a:off x="-629280" y="814320"/>
            <a:ext cx="3787560" cy="585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85840" y="2938320"/>
            <a:ext cx="273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c980"/>
                </a:solidFill>
                <a:latin typeface="Hoefler Text"/>
              </a:rPr>
              <a:t>Feedback helps students:</a:t>
            </a: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hecklist for Effective Instru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n be used as a self-assessment, lesson planning aid, or teacher observat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n be used for reflection and to set goals to improve less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84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5" name="Picture 25" descr="videooriginal.jpg"/>
          <p:cNvPicPr/>
          <p:nvPr/>
        </p:nvPicPr>
        <p:blipFill>
          <a:blip r:embed="rId2"/>
          <a:stretch/>
        </p:blipFill>
        <p:spPr>
          <a:xfrm>
            <a:off x="8427960" y="598320"/>
            <a:ext cx="6825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xplicit Instru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volves modeling and explaining concepts and skills in ways that are concrete and visible, include clear language, and use many exampl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24" name="Picture 6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xplicit Instruction (cont.)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nsists of the following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edictable, clear, and consistent instructi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Known expectati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amiliar routin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Explicit Instruction With Model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Thoughtfully and deliberately model how to solve reading challeng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ke your thinking visible</a:t>
            </a: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Modeling: I Do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e teacher does the following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Demonstrates the task alou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Follows a step-by-step procedur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Uses language specific to the skil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Speaks clearly while model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bf2476"/>
                </a:solidFill>
                <a:latin typeface="Tahoma"/>
              </a:rPr>
              <a:t>Checks for understanding during model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1" name="Picture 6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Guided Practice: We Do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udents practice what the teacher modeled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e teacher provides feedbac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eers provide feedbac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hecking for Understanding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scuss the list on Handout 1 with your table group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dd other ideas to this lis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6" name="Picture 8" descr="Handout.png"/>
          <p:cNvPicPr/>
          <p:nvPr/>
        </p:nvPicPr>
        <p:blipFill>
          <a:blip r:embed="rId1"/>
          <a:stretch/>
        </p:blipFill>
        <p:spPr>
          <a:xfrm>
            <a:off x="8516880" y="139716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7" name="Picture 9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Independent Practice: You Do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69760" y="1258560"/>
            <a:ext cx="76611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udents practice the skill independently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 center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ith partner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ith accountability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21T17:46:12Z</dcterms:modified>
  <cp:revision>363</cp:revision>
  <dc:subject/>
  <dc:title>Overview of the Kindergarten Teacher Reading Academy (KTRA)</dc:title>
</cp:coreProperties>
</file>