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295280" y="1600200"/>
            <a:ext cx="5028840" cy="3657240"/>
            <a:chOff x="1295280" y="1600200"/>
            <a:chExt cx="5028840" cy="3657240"/>
          </a:xfrm>
        </p:grpSpPr>
        <p:sp>
          <p:nvSpPr>
            <p:cNvPr id="215" name="Rectangle 5"/>
            <p:cNvSpPr/>
            <p:nvPr/>
          </p:nvSpPr>
          <p:spPr>
            <a:xfrm>
              <a:off x="1415880" y="1721880"/>
              <a:ext cx="4908240" cy="3535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1295280" y="1600200"/>
              <a:ext cx="4908240" cy="35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240" y="1676520"/>
            <a:ext cx="48769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lick to move the slide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355760" y="5734080"/>
            <a:ext cx="435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68560" y="1600200"/>
            <a:ext cx="4825800" cy="3619440"/>
          </a:xfrm>
          <a:prstGeom prst="rect">
            <a:avLst/>
          </a:prstGeom>
          <a:ln w="0">
            <a:noFill/>
          </a:ln>
        </p:spPr>
      </p:sp>
      <p:grpSp>
        <p:nvGrpSpPr>
          <p:cNvPr id="384" name="Group 3"/>
          <p:cNvGrpSpPr/>
          <p:nvPr/>
        </p:nvGrpSpPr>
        <p:grpSpPr>
          <a:xfrm>
            <a:off x="115920" y="2274840"/>
            <a:ext cx="3921480" cy="6945120"/>
            <a:chOff x="115920" y="2274840"/>
            <a:chExt cx="3921480" cy="6945120"/>
          </a:xfrm>
        </p:grpSpPr>
        <p:sp>
          <p:nvSpPr>
            <p:cNvPr id="385" name="Text Box 4"/>
            <p:cNvSpPr/>
            <p:nvPr/>
          </p:nvSpPr>
          <p:spPr>
            <a:xfrm>
              <a:off x="3009240" y="2274840"/>
              <a:ext cx="10281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0000" spc="-1" strike="noStrike">
                <a:solidFill>
                  <a:srgbClr val="5c0071"/>
                </a:solidFill>
                <a:latin typeface="Tahoma"/>
              </a:endParaRPr>
            </a:p>
          </p:txBody>
        </p:sp>
        <p:sp>
          <p:nvSpPr>
            <p:cNvPr id="386" name="Text Box 5"/>
            <p:cNvSpPr/>
            <p:nvPr/>
          </p:nvSpPr>
          <p:spPr>
            <a:xfrm flipV="1">
              <a:off x="115920" y="8516520"/>
              <a:ext cx="4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4000" spc="-1" strike="noStrike">
                <a:solidFill>
                  <a:srgbClr val="5c0071"/>
                </a:solidFill>
                <a:latin typeface="Tahoma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B3A-298F-449C-A5E2-91804BF1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8BC-F811-4552-9C81-583B5955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E36-D2F6-48B2-B35F-8AFA7BD9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9FA-BD29-4C6F-B3EF-69F38F83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537-81A9-4C47-9A26-911D72A4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8DD-1155-4D2F-ADD7-E6292FB0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C15-2674-45A4-8FC8-1B1811DD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D66-EFA3-4401-8FE2-12756214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FF7-2D0A-4FB9-8863-9DFCD80B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714-31F5-4C77-92F6-D7C9CA2D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80B-6134-4575-9CA0-2B18AAB2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3160" y="0"/>
            <a:ext cx="748044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9048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11200" y="125856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7012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9048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11200" y="3773520"/>
            <a:ext cx="240012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566-C270-4119-A220-8E6B86C6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0080" y="377352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012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080" y="1258560"/>
            <a:ext cx="363780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0120" y="3773520"/>
            <a:ext cx="7454880" cy="22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2027-6BD9-4C28-93A4-FE62E238235C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" name="Text Box 111"/>
          <p:cNvSpPr/>
          <p:nvPr/>
        </p:nvSpPr>
        <p:spPr>
          <a:xfrm>
            <a:off x="232560" y="6611760"/>
            <a:ext cx="167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Phonological Awareness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5F2E-FBAD-4022-BE1A-01D8EAEDC5B5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2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43" name="Text Box 111"/>
          <p:cNvSpPr/>
          <p:nvPr/>
        </p:nvSpPr>
        <p:spPr>
          <a:xfrm>
            <a:off x="232560" y="6611760"/>
            <a:ext cx="167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Phonological Awareness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44" name="Picture 6" descr="1M7_titl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DA88-A44D-4391-93A5-E1EDFC211461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4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5" name="Text Box 111"/>
          <p:cNvSpPr/>
          <p:nvPr/>
        </p:nvSpPr>
        <p:spPr>
          <a:xfrm>
            <a:off x="232560" y="6611760"/>
            <a:ext cx="167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Phonological Awareness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86" name="Picture 6" descr="0_thrulin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36DA-CB89-4CC9-9749-342E3CD6BD63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8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89" name="Text Box 111"/>
          <p:cNvSpPr/>
          <p:nvPr/>
        </p:nvSpPr>
        <p:spPr>
          <a:xfrm>
            <a:off x="246240" y="6611760"/>
            <a:ext cx="21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KTLA: Oral Language Development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DF00-8C68-4B8A-A4A7-984B60145505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29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0" name="Text Box 111"/>
          <p:cNvSpPr/>
          <p:nvPr/>
        </p:nvSpPr>
        <p:spPr>
          <a:xfrm>
            <a:off x="232560" y="6611760"/>
            <a:ext cx="167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Phonological Awareness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9"/>
          <p:cNvSpPr/>
          <p:nvPr/>
        </p:nvSpPr>
        <p:spPr>
          <a:xfrm>
            <a:off x="8505720" y="6581880"/>
            <a:ext cx="417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B727-3AAB-4B4B-BD4E-F9A4F7294A3C}" type="slidenum">
              <a:rPr b="0" lang="en-US" sz="1200" spc="-1" strike="noStrike">
                <a:solidFill>
                  <a:srgbClr val="fdd48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0" name="Text Box 110"/>
          <p:cNvSpPr/>
          <p:nvPr/>
        </p:nvSpPr>
        <p:spPr>
          <a:xfrm>
            <a:off x="4815000" y="6611760"/>
            <a:ext cx="358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d486"/>
                </a:solidFill>
                <a:latin typeface="Tahoma"/>
              </a:rPr>
              <a:t>© 2016 UT System/TEA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1" name="Text Box 111"/>
          <p:cNvSpPr/>
          <p:nvPr/>
        </p:nvSpPr>
        <p:spPr>
          <a:xfrm>
            <a:off x="232560" y="6611760"/>
            <a:ext cx="167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dd486"/>
                </a:solidFill>
                <a:latin typeface="Tahoma"/>
              </a:rPr>
              <a:t>1: Phonological Awareness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2" marL="1317600" indent="-347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3" marL="1768320" indent="-336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4" marL="2228760" indent="-3459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5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lvl="6" marL="2228760" indent="-345960">
              <a:spcBef>
                <a:spcPts val="1199"/>
              </a:spcBef>
              <a:buClr>
                <a:srgbClr val="5c0071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lick to edit the title text format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c007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D8AB-12C9-480E-96AF-D6513D1DE19C}" type="slidenum">
              <a:rPr b="0" lang="en-US" sz="2400" spc="-1" strike="noStrike">
                <a:solidFill>
                  <a:srgbClr val="5c007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3160" y="-4968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How Is Phonological Awareness </a:t>
            </a:r>
            <a:br>
              <a:rPr sz="2800"/>
            </a:b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Taught Effectively?</a:t>
            </a:r>
            <a:endParaRPr b="1" lang="en-US" sz="28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70120" y="1168560"/>
            <a:ext cx="7454880" cy="53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Phonological awareness instruction is most effective in small groups of four to six students but may be taught with the whole group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Practice all skills before teaching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Practice producing phonemes correctly: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Produce clean, brief sounds in isolation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Avoid adding a schwa sound to consonants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855720" indent="-398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Segment words into phonemes (consonant blends are two or three individual sounds; long vowels and diphthongs are one sound)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3160" y="-4968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How Is Phonological Awareness </a:t>
            </a:r>
            <a:br>
              <a:rPr sz="2800"/>
            </a:b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Taught Effectively? (cont.)</a:t>
            </a:r>
            <a:endParaRPr b="1" lang="en-US" sz="28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Orally manipulate words, syllables, and phoneme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ake kinesthetic connection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Focus on a few skills at at time: Scaffold phoneme instruction by moving from simple to complex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anipulate phonemes by pairing with graphemes when students begin to make connections and demonstrate ability at the phoneme level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63160" y="-4176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How Is Phonological Awareness </a:t>
            </a:r>
            <a:br>
              <a:rPr sz="2800"/>
            </a:b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Taught Effectively? (cont.)</a:t>
            </a:r>
            <a:endParaRPr b="1" lang="en-US" sz="28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82840" y="1378080"/>
            <a:ext cx="5353200" cy="315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573120" indent="-290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et a clear instructional focu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573120" indent="-290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each skills sequentially and scaffold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573120" indent="-290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Be explicit and model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573120" indent="-290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Keep pacing brisk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573120" indent="-29052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rovide multiple opportunities for student practice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62" name="AutoShape 12"/>
          <p:cNvSpPr/>
          <p:nvPr/>
        </p:nvSpPr>
        <p:spPr>
          <a:xfrm flipH="1">
            <a:off x="-483480" y="836640"/>
            <a:ext cx="3830760" cy="584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284040" y="2373480"/>
            <a:ext cx="286704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d486"/>
                </a:solidFill>
                <a:latin typeface="Hoefler Text"/>
              </a:rPr>
              <a:t>Use the features of effective instruction:</a:t>
            </a:r>
            <a:endParaRPr b="0" lang="en-US" sz="32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1"/>
          <p:cNvSpPr/>
          <p:nvPr/>
        </p:nvSpPr>
        <p:spPr>
          <a:xfrm>
            <a:off x="1173240" y="168120"/>
            <a:ext cx="7778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d387"/>
                </a:solidFill>
                <a:latin typeface="Hoefler Text"/>
              </a:rPr>
              <a:t>Phonological Awareness Continuum</a:t>
            </a:r>
            <a:endParaRPr b="0" lang="en-US" sz="3100" spc="-1" strike="noStrike">
              <a:solidFill>
                <a:srgbClr val="5c0071"/>
              </a:solidFill>
              <a:latin typeface="Tahoma"/>
            </a:endParaRPr>
          </a:p>
        </p:txBody>
      </p:sp>
      <p:grpSp>
        <p:nvGrpSpPr>
          <p:cNvPr id="265" name="Group 2"/>
          <p:cNvGrpSpPr/>
          <p:nvPr/>
        </p:nvGrpSpPr>
        <p:grpSpPr>
          <a:xfrm>
            <a:off x="272880" y="1022400"/>
            <a:ext cx="8227080" cy="5213160"/>
            <a:chOff x="272880" y="1022400"/>
            <a:chExt cx="8227080" cy="5213160"/>
          </a:xfrm>
        </p:grpSpPr>
        <p:sp>
          <p:nvSpPr>
            <p:cNvPr id="266" name="Freeform 9"/>
            <p:cNvSpPr/>
            <p:nvPr/>
          </p:nvSpPr>
          <p:spPr>
            <a:xfrm>
              <a:off x="5492520" y="1896840"/>
              <a:ext cx="2540160" cy="488880"/>
            </a:xfrm>
            <a:custGeom>
              <a:avLst/>
              <a:gdLst>
                <a:gd name="textAreaLeft" fmla="*/ 0 w 2540160"/>
                <a:gd name="textAreaRight" fmla="*/ 2540520 w 254016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214" h="286">
                  <a:moveTo>
                    <a:pt x="1384" y="0"/>
                  </a:moveTo>
                  <a:lnTo>
                    <a:pt x="2213" y="285"/>
                  </a:lnTo>
                  <a:lnTo>
                    <a:pt x="829" y="285"/>
                  </a:lnTo>
                  <a:lnTo>
                    <a:pt x="0" y="0"/>
                  </a:lnTo>
                  <a:lnTo>
                    <a:pt x="1384" y="0"/>
                  </a:lnTo>
                </a:path>
              </a:pathLst>
            </a:custGeom>
            <a:solidFill>
              <a:srgbClr val="cc66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c0071"/>
                </a:solidFill>
                <a:latin typeface="Tahoma"/>
              </a:endParaRPr>
            </a:p>
          </p:txBody>
        </p:sp>
        <p:grpSp>
          <p:nvGrpSpPr>
            <p:cNvPr id="267" name="Group 1"/>
            <p:cNvGrpSpPr/>
            <p:nvPr/>
          </p:nvGrpSpPr>
          <p:grpSpPr>
            <a:xfrm>
              <a:off x="272880" y="1022400"/>
              <a:ext cx="8227080" cy="5213160"/>
              <a:chOff x="272880" y="1022400"/>
              <a:chExt cx="8227080" cy="5213160"/>
            </a:xfrm>
          </p:grpSpPr>
          <p:sp>
            <p:nvSpPr>
              <p:cNvPr id="268" name="Rectangle 4"/>
              <p:cNvSpPr/>
              <p:nvPr/>
            </p:nvSpPr>
            <p:spPr>
              <a:xfrm>
                <a:off x="1185480" y="4192560"/>
                <a:ext cx="150804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6699"/>
                    </a:solidFill>
                    <a:latin typeface="Tahoma"/>
                  </a:rPr>
                  <a:t>Rhyme and</a:t>
                </a:r>
                <a:endParaRPr b="0" lang="en-US" sz="1800" spc="-1" strike="noStrike">
                  <a:solidFill>
                    <a:srgbClr val="5c0071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6699"/>
                    </a:solidFill>
                    <a:latin typeface="Tahoma"/>
                  </a:rPr>
                  <a:t>alliteration</a:t>
                </a:r>
                <a:endParaRPr b="0" lang="en-US" sz="1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69" name="Rectangle 5"/>
              <p:cNvSpPr/>
              <p:nvPr/>
            </p:nvSpPr>
            <p:spPr>
              <a:xfrm>
                <a:off x="769680" y="3468600"/>
                <a:ext cx="288144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6699"/>
                    </a:solidFill>
                    <a:latin typeface="Tahoma"/>
                  </a:rPr>
                  <a:t>Phrases and sentence</a:t>
                </a:r>
                <a:endParaRPr b="0" lang="en-US" sz="1800" spc="-1" strike="noStrike">
                  <a:solidFill>
                    <a:srgbClr val="5c0071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6699"/>
                    </a:solidFill>
                    <a:latin typeface="Tahoma"/>
                  </a:rPr>
                  <a:t>segmentation</a:t>
                </a:r>
                <a:endParaRPr b="0" lang="en-US" sz="1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70" name="Rectangle 6"/>
              <p:cNvSpPr/>
              <p:nvPr/>
            </p:nvSpPr>
            <p:spPr>
              <a:xfrm>
                <a:off x="2228760" y="2670120"/>
                <a:ext cx="230508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f2476"/>
                    </a:solidFill>
                    <a:latin typeface="Tahoma"/>
                  </a:rPr>
                  <a:t>Syllable blending</a:t>
                </a:r>
                <a:endParaRPr b="0" lang="en-US" sz="1800" spc="-1" strike="noStrike">
                  <a:solidFill>
                    <a:srgbClr val="5c0071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f2476"/>
                    </a:solidFill>
                    <a:latin typeface="Tahoma"/>
                  </a:rPr>
                  <a:t>and segmentation</a:t>
                </a:r>
                <a:endParaRPr b="0" lang="en-US" sz="1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71" name="Rectangle 7"/>
              <p:cNvSpPr/>
              <p:nvPr/>
            </p:nvSpPr>
            <p:spPr>
              <a:xfrm>
                <a:off x="2738160" y="1946160"/>
                <a:ext cx="2727360" cy="58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f2476"/>
                    </a:solidFill>
                    <a:latin typeface="Tahoma"/>
                  </a:rPr>
                  <a:t>Onset-rime blending</a:t>
                </a:r>
                <a:endParaRPr b="0" lang="en-US" sz="1800" spc="-1" strike="noStrike">
                  <a:solidFill>
                    <a:srgbClr val="5c0071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f2476"/>
                    </a:solidFill>
                    <a:latin typeface="Tahoma"/>
                  </a:rPr>
                  <a:t>and segmentation</a:t>
                </a:r>
                <a:endParaRPr b="0" lang="en-US" sz="1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72" name="Rectangle 8"/>
              <p:cNvSpPr/>
              <p:nvPr/>
            </p:nvSpPr>
            <p:spPr>
              <a:xfrm>
                <a:off x="5110200" y="1022400"/>
                <a:ext cx="2417760" cy="107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f2476"/>
                    </a:solidFill>
                    <a:latin typeface="Tahoma"/>
                  </a:rPr>
                  <a:t>Phoneme blending, segmentation, and manipulation</a:t>
                </a:r>
                <a:endParaRPr b="0" lang="en-US" sz="1800" spc="-1" strike="noStrike">
                  <a:solidFill>
                    <a:srgbClr val="5c0071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73" name="Freeform 10"/>
              <p:cNvSpPr/>
              <p:nvPr/>
            </p:nvSpPr>
            <p:spPr>
              <a:xfrm>
                <a:off x="4527360" y="2625480"/>
                <a:ext cx="2328840" cy="509400"/>
              </a:xfrm>
              <a:custGeom>
                <a:avLst/>
                <a:gdLst>
                  <a:gd name="textAreaLeft" fmla="*/ 0 w 2328840"/>
                  <a:gd name="textAreaRight" fmla="*/ 2329200 w 232884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1618" h="298">
                    <a:moveTo>
                      <a:pt x="647" y="0"/>
                    </a:moveTo>
                    <a:lnTo>
                      <a:pt x="1617" y="297"/>
                    </a:lnTo>
                    <a:lnTo>
                      <a:pt x="970" y="297"/>
                    </a:lnTo>
                    <a:lnTo>
                      <a:pt x="0" y="0"/>
                    </a:lnTo>
                    <a:lnTo>
                      <a:pt x="647" y="0"/>
                    </a:lnTo>
                  </a:path>
                </a:pathLst>
              </a:custGeom>
              <a:solidFill>
                <a:srgbClr val="cc66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74" name="Freeform 11"/>
              <p:cNvSpPr/>
              <p:nvPr/>
            </p:nvSpPr>
            <p:spPr>
              <a:xfrm>
                <a:off x="3632040" y="3382920"/>
                <a:ext cx="2290680" cy="514080"/>
              </a:xfrm>
              <a:custGeom>
                <a:avLst/>
                <a:gdLst>
                  <a:gd name="textAreaLeft" fmla="*/ 0 w 2290680"/>
                  <a:gd name="textAreaRight" fmla="*/ 2291040 w 2290680"/>
                  <a:gd name="textAreaTop" fmla="*/ 0 h 514080"/>
                  <a:gd name="textAreaBottom" fmla="*/ 514440 h 514080"/>
                </a:gdLst>
                <a:ahLst/>
                <a:rect l="textAreaLeft" t="textAreaTop" r="textAreaRight" b="textAreaBottom"/>
                <a:pathLst>
                  <a:path w="1592" h="300">
                    <a:moveTo>
                      <a:pt x="0" y="0"/>
                    </a:moveTo>
                    <a:lnTo>
                      <a:pt x="622" y="0"/>
                    </a:lnTo>
                    <a:lnTo>
                      <a:pt x="1591" y="299"/>
                    </a:lnTo>
                    <a:lnTo>
                      <a:pt x="944" y="2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66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75" name="Freeform 12"/>
              <p:cNvSpPr/>
              <p:nvPr/>
            </p:nvSpPr>
            <p:spPr>
              <a:xfrm>
                <a:off x="2700000" y="4148280"/>
                <a:ext cx="2293920" cy="504720"/>
              </a:xfrm>
              <a:custGeom>
                <a:avLst/>
                <a:gdLst>
                  <a:gd name="textAreaLeft" fmla="*/ 0 w 2293920"/>
                  <a:gd name="textAreaRight" fmla="*/ 2294280 w 2293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1594" h="295">
                    <a:moveTo>
                      <a:pt x="0" y="0"/>
                    </a:moveTo>
                    <a:lnTo>
                      <a:pt x="648" y="0"/>
                    </a:lnTo>
                    <a:lnTo>
                      <a:pt x="1593" y="294"/>
                    </a:lnTo>
                    <a:lnTo>
                      <a:pt x="945" y="29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cc1f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76" name="Freeform 13"/>
              <p:cNvSpPr/>
              <p:nvPr/>
            </p:nvSpPr>
            <p:spPr>
              <a:xfrm rot="21318000">
                <a:off x="1698480" y="4854600"/>
                <a:ext cx="2351160" cy="671400"/>
              </a:xfrm>
              <a:custGeom>
                <a:avLst/>
                <a:gdLst>
                  <a:gd name="textAreaLeft" fmla="*/ 0 w 2351160"/>
                  <a:gd name="textAreaRight" fmla="*/ 2351520 w 2351160"/>
                  <a:gd name="textAreaTop" fmla="*/ 0 h 671400"/>
                  <a:gd name="textAreaBottom" fmla="*/ 671760 h 671400"/>
                </a:gdLst>
                <a:ahLst/>
                <a:rect l="textAreaLeft" t="textAreaTop" r="textAreaRight" b="textAreaBottom"/>
                <a:pathLst>
                  <a:path w="1687" h="313">
                    <a:moveTo>
                      <a:pt x="0" y="0"/>
                    </a:moveTo>
                    <a:lnTo>
                      <a:pt x="685" y="0"/>
                    </a:lnTo>
                    <a:lnTo>
                      <a:pt x="1686" y="312"/>
                    </a:lnTo>
                    <a:lnTo>
                      <a:pt x="1030" y="3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cc1f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77" name="Freeform 14"/>
              <p:cNvSpPr/>
              <p:nvPr/>
            </p:nvSpPr>
            <p:spPr>
              <a:xfrm>
                <a:off x="2700000" y="4148280"/>
                <a:ext cx="1358640" cy="1261800"/>
              </a:xfrm>
              <a:custGeom>
                <a:avLst/>
                <a:gdLst>
                  <a:gd name="textAreaLeft" fmla="*/ 0 w 1358640"/>
                  <a:gd name="textAreaRight" fmla="*/ 1359000 w 1358640"/>
                  <a:gd name="textAreaTop" fmla="*/ 0 h 1261800"/>
                  <a:gd name="textAreaBottom" fmla="*/ 1262160 h 1261800"/>
                </a:gdLst>
                <a:ahLst/>
                <a:rect l="textAreaLeft" t="textAreaTop" r="textAreaRight" b="textAreaBottom"/>
                <a:pathLst>
                  <a:path w="945" h="739">
                    <a:moveTo>
                      <a:pt x="0" y="0"/>
                    </a:moveTo>
                    <a:lnTo>
                      <a:pt x="0" y="443"/>
                    </a:lnTo>
                    <a:lnTo>
                      <a:pt x="944" y="738"/>
                    </a:lnTo>
                    <a:lnTo>
                      <a:pt x="944" y="2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83e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78" name="Freeform 15"/>
              <p:cNvSpPr/>
              <p:nvPr/>
            </p:nvSpPr>
            <p:spPr>
              <a:xfrm>
                <a:off x="3632040" y="3382920"/>
                <a:ext cx="1361880" cy="126972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1269720"/>
                  <a:gd name="textAreaBottom" fmla="*/ 1270080 h 1269720"/>
                </a:gdLst>
                <a:ahLst/>
                <a:rect l="textAreaLeft" t="textAreaTop" r="textAreaRight" b="textAreaBottom"/>
                <a:pathLst>
                  <a:path w="946" h="742">
                    <a:moveTo>
                      <a:pt x="0" y="0"/>
                    </a:moveTo>
                    <a:lnTo>
                      <a:pt x="0" y="446"/>
                    </a:lnTo>
                    <a:lnTo>
                      <a:pt x="945" y="741"/>
                    </a:lnTo>
                    <a:lnTo>
                      <a:pt x="945" y="29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247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79" name="Freeform 16"/>
              <p:cNvSpPr/>
              <p:nvPr/>
            </p:nvSpPr>
            <p:spPr>
              <a:xfrm>
                <a:off x="4527360" y="2625480"/>
                <a:ext cx="1395360" cy="1271520"/>
              </a:xfrm>
              <a:custGeom>
                <a:avLst/>
                <a:gdLst>
                  <a:gd name="textAreaLeft" fmla="*/ 0 w 1395360"/>
                  <a:gd name="textAreaRight" fmla="*/ 1395720 w 1395360"/>
                  <a:gd name="textAreaTop" fmla="*/ 0 h 1271520"/>
                  <a:gd name="textAreaBottom" fmla="*/ 1271880 h 1271520"/>
                </a:gdLst>
                <a:ahLst/>
                <a:rect l="textAreaLeft" t="textAreaTop" r="textAreaRight" b="textAreaBottom"/>
                <a:pathLst>
                  <a:path w="970" h="743">
                    <a:moveTo>
                      <a:pt x="0" y="0"/>
                    </a:moveTo>
                    <a:lnTo>
                      <a:pt x="0" y="444"/>
                    </a:lnTo>
                    <a:lnTo>
                      <a:pt x="969" y="742"/>
                    </a:lnTo>
                    <a:lnTo>
                      <a:pt x="969" y="2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247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80" name="Freeform 17"/>
              <p:cNvSpPr/>
              <p:nvPr/>
            </p:nvSpPr>
            <p:spPr>
              <a:xfrm>
                <a:off x="5459400" y="1912680"/>
                <a:ext cx="1396800" cy="1222200"/>
              </a:xfrm>
              <a:custGeom>
                <a:avLst/>
                <a:gdLst>
                  <a:gd name="textAreaLeft" fmla="*/ 0 w 1396800"/>
                  <a:gd name="textAreaRight" fmla="*/ 1397160 w 1396800"/>
                  <a:gd name="textAreaTop" fmla="*/ 0 h 1222200"/>
                  <a:gd name="textAreaBottom" fmla="*/ 1222560 h 1222200"/>
                </a:gdLst>
                <a:ahLst/>
                <a:rect l="textAreaLeft" t="textAreaTop" r="textAreaRight" b="textAreaBottom"/>
                <a:pathLst>
                  <a:path w="971" h="716">
                    <a:moveTo>
                      <a:pt x="0" y="0"/>
                    </a:moveTo>
                    <a:lnTo>
                      <a:pt x="0" y="418"/>
                    </a:lnTo>
                    <a:lnTo>
                      <a:pt x="970" y="715"/>
                    </a:lnTo>
                    <a:lnTo>
                      <a:pt x="970" y="26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247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81" name="Line 19"/>
              <p:cNvSpPr/>
              <p:nvPr/>
            </p:nvSpPr>
            <p:spPr>
              <a:xfrm flipH="1">
                <a:off x="7958160" y="2395440"/>
                <a:ext cx="23760" cy="3840120"/>
              </a:xfrm>
              <a:prstGeom prst="line">
                <a:avLst/>
              </a:prstGeom>
              <a:ln w="22320">
                <a:solidFill>
                  <a:srgbClr val="5c00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 rot="145800">
                <a:off x="1641240" y="4979880"/>
                <a:ext cx="1504800" cy="12222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1222200"/>
                  <a:gd name="textAreaBottom" fmla="*/ 1222560 h 1222200"/>
                </a:gdLst>
                <a:ahLst/>
                <a:rect l="textAreaLeft" t="textAreaTop" r="textAreaRight" b="textAreaBottom"/>
                <a:pathLst>
                  <a:path w="945" h="739">
                    <a:moveTo>
                      <a:pt x="0" y="0"/>
                    </a:moveTo>
                    <a:lnTo>
                      <a:pt x="0" y="443"/>
                    </a:lnTo>
                    <a:lnTo>
                      <a:pt x="944" y="738"/>
                    </a:lnTo>
                    <a:lnTo>
                      <a:pt x="944" y="2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83e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83" name="Rectangle 4"/>
              <p:cNvSpPr/>
              <p:nvPr/>
            </p:nvSpPr>
            <p:spPr>
              <a:xfrm>
                <a:off x="272880" y="5111640"/>
                <a:ext cx="1387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6699"/>
                    </a:solidFill>
                    <a:latin typeface="Tahoma"/>
                  </a:rPr>
                  <a:t>Listening</a:t>
                </a:r>
                <a:endParaRPr b="0" lang="en-US" sz="1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84" name="AutoShape 18"/>
              <p:cNvSpPr/>
              <p:nvPr/>
            </p:nvSpPr>
            <p:spPr>
              <a:xfrm flipH="1" rot="8340000">
                <a:off x="3455280" y="3711240"/>
                <a:ext cx="5462640" cy="766440"/>
              </a:xfrm>
              <a:prstGeom prst="rightArrow">
                <a:avLst>
                  <a:gd name="adj1" fmla="val 50000"/>
                  <a:gd name="adj2" fmla="val 62100"/>
                </a:avLst>
              </a:prstGeom>
              <a:solidFill>
                <a:srgbClr val="2f8568"/>
              </a:solidFill>
              <a:ln w="34920">
                <a:solidFill>
                  <a:srgbClr val="bf24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85" name="TextBox 79"/>
              <p:cNvSpPr/>
              <p:nvPr/>
            </p:nvSpPr>
            <p:spPr>
              <a:xfrm rot="19134600">
                <a:off x="4014000" y="5262120"/>
                <a:ext cx="115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e"/>
                    </a:solidFill>
                    <a:latin typeface="Tahoma"/>
                  </a:rPr>
                  <a:t>simple</a:t>
                </a:r>
                <a:endParaRPr b="0" lang="en-US" sz="20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86" name="TextBox 80"/>
              <p:cNvSpPr/>
              <p:nvPr/>
            </p:nvSpPr>
            <p:spPr>
              <a:xfrm rot="19134600">
                <a:off x="6714720" y="2868480"/>
                <a:ext cx="130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e"/>
                    </a:solidFill>
                    <a:latin typeface="Tahoma"/>
                  </a:rPr>
                  <a:t>complex</a:t>
                </a:r>
                <a:endParaRPr b="0" lang="en-US" sz="20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  <p:sp>
            <p:nvSpPr>
              <p:cNvPr id="287" name="Straight Connector 82"/>
              <p:cNvSpPr/>
              <p:nvPr/>
            </p:nvSpPr>
            <p:spPr>
              <a:xfrm>
                <a:off x="3119400" y="6226200"/>
                <a:ext cx="4843440" cy="1440"/>
              </a:xfrm>
              <a:prstGeom prst="line">
                <a:avLst/>
              </a:prstGeom>
              <a:ln w="19080">
                <a:solidFill>
                  <a:srgbClr val="5c00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5c0071"/>
                  </a:solidFill>
                  <a:latin typeface="Tahoma"/>
                </a:endParaRPr>
              </a:p>
            </p:txBody>
          </p:sp>
        </p:grpSp>
      </p:grpSp>
      <p:pic>
        <p:nvPicPr>
          <p:cNvPr id="288" name="Picture 25" descr="videooriginal.jpg"/>
          <p:cNvPicPr/>
          <p:nvPr/>
        </p:nvPicPr>
        <p:blipFill>
          <a:blip r:embed="rId1"/>
          <a:stretch/>
        </p:blipFill>
        <p:spPr>
          <a:xfrm>
            <a:off x="8427960" y="695160"/>
            <a:ext cx="682560" cy="614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6" descr="Handout.png"/>
          <p:cNvPicPr/>
          <p:nvPr/>
        </p:nvPicPr>
        <p:blipFill>
          <a:blip r:embed="rId2"/>
          <a:stretch/>
        </p:blipFill>
        <p:spPr>
          <a:xfrm>
            <a:off x="8516880" y="1523880"/>
            <a:ext cx="500040" cy="72252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12"/>
          <p:cNvSpPr/>
          <p:nvPr/>
        </p:nvSpPr>
        <p:spPr>
          <a:xfrm flipH="1">
            <a:off x="-483480" y="836640"/>
            <a:ext cx="3830760" cy="584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235080" y="2505240"/>
            <a:ext cx="29970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d486"/>
                </a:solidFill>
                <a:latin typeface="Hoefler Text"/>
              </a:rPr>
              <a:t>A </a:t>
            </a:r>
            <a:r>
              <a:rPr b="1" lang="en-US" sz="3200" spc="-1" strike="noStrike">
                <a:solidFill>
                  <a:srgbClr val="fdd486"/>
                </a:solidFill>
                <a:latin typeface="Hoefler Text"/>
              </a:rPr>
              <a:t>phoneme </a:t>
            </a:r>
            <a:r>
              <a:rPr b="0" lang="en-US" sz="3200" spc="-1" strike="noStrike">
                <a:solidFill>
                  <a:srgbClr val="fdd486"/>
                </a:solidFill>
                <a:latin typeface="Hoefler Text"/>
              </a:rPr>
              <a:t>is the smallest unit of sound in spoken words.</a:t>
            </a:r>
            <a:endParaRPr b="0" lang="en-US" sz="3200" spc="-1" strike="noStrike">
              <a:solidFill>
                <a:srgbClr val="5c0071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Phonemic Awareness: A Closer Look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3424320" y="2273400"/>
            <a:ext cx="5344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Example three-phoneme word:</a:t>
            </a:r>
            <a:endParaRPr b="0" lang="en-US" sz="2600" spc="-1" strike="noStrike">
              <a:solidFill>
                <a:srgbClr val="5c0071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446640" y="2873520"/>
          <a:ext cx="5279760" cy="2441520"/>
        </p:xfrm>
        <a:graphic>
          <a:graphicData uri="http://schemas.openxmlformats.org/drawingml/2006/table">
            <a:tbl>
              <a:tblPr/>
              <a:tblGrid>
                <a:gridCol w="1800000"/>
                <a:gridCol w="1841400"/>
                <a:gridCol w="1638360"/>
              </a:tblGrid>
              <a:tr h="520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2f8568"/>
                          </a:solidFill>
                          <a:latin typeface="Tahoma"/>
                        </a:rPr>
                        <a:t>/m/</a:t>
                      </a:r>
                      <a:endParaRPr b="0" lang="en-US" sz="24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2f8568"/>
                          </a:solidFill>
                          <a:latin typeface="Tahoma"/>
                        </a:rPr>
                        <a:t>/ă/</a:t>
                      </a:r>
                      <a:endParaRPr b="0" lang="en-US" sz="24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2f8568"/>
                          </a:solidFill>
                          <a:latin typeface="Tahoma"/>
                        </a:rPr>
                        <a:t>/t/</a:t>
                      </a:r>
                      <a:endParaRPr b="0" lang="en-US" sz="24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0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first phoneme</a:t>
                      </a:r>
                      <a:endParaRPr b="0" lang="en-US" sz="24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2f8568"/>
                          </a:solidFill>
                          <a:latin typeface="Tahoma"/>
                        </a:rPr>
                        <a:t>initial, beginning, first</a:t>
                      </a:r>
                      <a:endParaRPr b="0" lang="en-US" sz="24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second phoneme</a:t>
                      </a:r>
                      <a:endParaRPr b="0" lang="en-US" sz="24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2f8568"/>
                          </a:solidFill>
                          <a:latin typeface="Tahoma"/>
                        </a:rPr>
                        <a:t>medial,</a:t>
                      </a:r>
                      <a:endParaRPr b="0" lang="en-US" sz="24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2f8568"/>
                          </a:solidFill>
                          <a:latin typeface="Tahoma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bf2476"/>
                          </a:solidFill>
                          <a:latin typeface="Tahoma"/>
                        </a:rPr>
                        <a:t>third phoneme</a:t>
                      </a:r>
                      <a:endParaRPr b="0" lang="en-US" sz="24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2f8568"/>
                          </a:solidFill>
                          <a:latin typeface="Tahoma"/>
                        </a:rPr>
                        <a:t>final,</a:t>
                      </a:r>
                      <a:endParaRPr b="0" lang="en-US" sz="24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2f8568"/>
                          </a:solidFill>
                          <a:latin typeface="Tahoma"/>
                        </a:rPr>
                        <a:t>ending,</a:t>
                      </a:r>
                      <a:endParaRPr b="0" lang="en-US" sz="24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2f8568"/>
                          </a:solidFill>
                          <a:latin typeface="Tahoma"/>
                        </a:rPr>
                        <a:t>last</a:t>
                      </a:r>
                      <a:endParaRPr b="0" lang="en-US" sz="2400" spc="-1" strike="noStrike">
                        <a:solidFill>
                          <a:srgbClr val="5c0071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onsonant Phonemes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</a:rPr>
              <a:t>There are 25 English consonant sounds.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</a:rPr>
              <a:t>These sounds differ from one another in one or more ways, including the following: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  <a:p>
            <a:pPr lvl="1" marL="668880" indent="-329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</a:rPr>
              <a:t>Place: Where the sound is produced (e.g., in the front part of the mouth versus the throat)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  <a:p>
            <a:pPr lvl="1" marL="668880" indent="-329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</a:rPr>
              <a:t>Manner: The way the sound is produced (e.g., making a continuous sound versus a stop sound)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  <a:p>
            <a:pPr lvl="1" marL="668880" indent="-32976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</a:rPr>
              <a:t>Voicing: Whether the sound is voiced or unvoiced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297" name="Picture 4" descr="Handout.png"/>
          <p:cNvPicPr/>
          <p:nvPr/>
        </p:nvPicPr>
        <p:blipFill>
          <a:blip r:embed="rId1"/>
          <a:stretch/>
        </p:blipFill>
        <p:spPr>
          <a:xfrm>
            <a:off x="8489880" y="13986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8" name="Picture 5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Consonant Phonemes (cont.)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870120" y="1133640"/>
            <a:ext cx="7454880" cy="481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nalyze the two student errors in the table on Handout 3. Provide a reason for the response and what to do instructionally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301" name="Picture 4" descr="Handout.png"/>
          <p:cNvPicPr/>
          <p:nvPr/>
        </p:nvPicPr>
        <p:blipFill>
          <a:blip r:embed="rId1"/>
          <a:stretch/>
        </p:blipFill>
        <p:spPr>
          <a:xfrm>
            <a:off x="8489880" y="13986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2" name="Picture 5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" descr=""/>
          <p:cNvPicPr/>
          <p:nvPr/>
        </p:nvPicPr>
        <p:blipFill>
          <a:blip r:embed="rId3"/>
          <a:srcRect l="11899" t="60422" r="11931" b="16915"/>
          <a:stretch/>
        </p:blipFill>
        <p:spPr>
          <a:xfrm>
            <a:off x="703440" y="3184560"/>
            <a:ext cx="7716600" cy="297180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808080">
                <a:alpha val="65000"/>
              </a:srgbClr>
            </a:outerShdw>
          </a:effectLst>
        </p:spPr>
      </p:pic>
      <p:sp>
        <p:nvSpPr>
          <p:cNvPr id="304" name="Rectangle 2"/>
          <p:cNvSpPr/>
          <p:nvPr/>
        </p:nvSpPr>
        <p:spPr>
          <a:xfrm>
            <a:off x="2490840" y="4014720"/>
            <a:ext cx="299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2476"/>
                </a:solidFill>
                <a:latin typeface="Tahoma"/>
                <a:ea typeface="ＭＳ 明朝"/>
              </a:rPr>
              <a:t>/d/ and /t/ are produced the same, except /d/ is voiced and /t/ is unvoiced</a:t>
            </a:r>
            <a:endParaRPr b="0" lang="en-US" sz="1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2444760" y="5005440"/>
            <a:ext cx="2995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2476"/>
                </a:solidFill>
                <a:latin typeface="Tahoma"/>
                <a:ea typeface="ＭＳ 明朝"/>
              </a:rPr>
              <a:t>Vowel nasalization: /m/ is a nasal; </a:t>
            </a:r>
            <a:br>
              <a:rPr sz="1400"/>
            </a:br>
            <a:r>
              <a:rPr b="0" lang="en-US" sz="1400" spc="-1" strike="noStrike">
                <a:solidFill>
                  <a:srgbClr val="bf2476"/>
                </a:solidFill>
                <a:latin typeface="Tahoma"/>
                <a:ea typeface="ＭＳ 明朝"/>
              </a:rPr>
              <a:t>/p/ is not voiced. The /m/ is absorbed by the vowel, and where </a:t>
            </a:r>
            <a:br>
              <a:rPr sz="1400"/>
            </a:br>
            <a:r>
              <a:rPr b="0" lang="en-US" sz="1400" spc="-1" strike="noStrike">
                <a:solidFill>
                  <a:srgbClr val="bf2476"/>
                </a:solidFill>
                <a:latin typeface="Tahoma"/>
                <a:ea typeface="ＭＳ 明朝"/>
              </a:rPr>
              <a:t>/m/ is produced is the same as where /p/ is produced.</a:t>
            </a:r>
            <a:endParaRPr b="0" lang="en-US" sz="1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5527800" y="4011480"/>
            <a:ext cx="2995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2476"/>
                </a:solidFill>
                <a:latin typeface="Tahoma"/>
                <a:ea typeface="ＭＳ 明朝"/>
              </a:rPr>
              <a:t>Ask the student to feel the difference between the sounds by saying them with her hand on her throat. </a:t>
            </a:r>
            <a:endParaRPr b="0" lang="en-US" sz="1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5472000" y="5072040"/>
            <a:ext cx="29955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f2476"/>
                </a:solidFill>
                <a:latin typeface="Tahoma"/>
                <a:ea typeface="ＭＳ 明朝"/>
              </a:rPr>
              <a:t>Have the student say the sounds while holding her nose. Also, /m/ is a continuant; </a:t>
            </a:r>
            <a:br>
              <a:rPr sz="1100"/>
            </a:br>
            <a:r>
              <a:rPr b="0" lang="en-US" sz="1100" spc="-1" strike="noStrike">
                <a:solidFill>
                  <a:srgbClr val="bf2476"/>
                </a:solidFill>
                <a:latin typeface="Tahoma"/>
                <a:ea typeface="ＭＳ 明朝"/>
              </a:rPr>
              <a:t>/p/ is a stop. Have her say each sound, stretching out the /m/ and feeling the puff of air that comes out with /p/.</a:t>
            </a:r>
            <a:endParaRPr b="0" lang="en-US" sz="11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Vowel Phonemes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lthough there is some disagreement as to the exact number, there are about 18 vowel sound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ll vowel sounds are voiced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o produce different vowel sounds, we open our mouths in different ways (e.g., round and open versus smiling)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310" name="Picture 4" descr="Handout.png"/>
          <p:cNvPicPr/>
          <p:nvPr/>
        </p:nvPicPr>
        <p:blipFill>
          <a:blip r:embed="rId1"/>
          <a:stretch/>
        </p:blipFill>
        <p:spPr>
          <a:xfrm>
            <a:off x="8489880" y="13986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11" name="Picture 25" descr="videooriginal.jpg"/>
          <p:cNvPicPr/>
          <p:nvPr/>
        </p:nvPicPr>
        <p:blipFill>
          <a:blip r:embed="rId2"/>
          <a:stretch/>
        </p:blipFill>
        <p:spPr>
          <a:xfrm>
            <a:off x="8427960" y="598320"/>
            <a:ext cx="6825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Phoneme Instructional Activities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Identifying phonemes:</a:t>
            </a:r>
            <a:br>
              <a:rPr sz="2000"/>
            </a:b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Isolate sounds (initial, final, medial)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Blending phonemes:</a:t>
            </a:r>
            <a:br>
              <a:rPr sz="2000"/>
            </a:b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Combine sounds to pronounce a word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Segmenting words into phonemes:</a:t>
            </a:r>
            <a:br>
              <a:rPr sz="2000"/>
            </a:b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Break words into their individual sounds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Manipulating phonemes:</a:t>
            </a:r>
            <a:br>
              <a:rPr sz="2000"/>
            </a:b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Add, delete, substitute phonemes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Systematic instruction from simple to complex: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lvl="1" marL="675720" indent="-3330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Two-phoneme words          four-phoneme words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lvl="1" marL="675720" indent="-3330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One-consonant sound         consonant blends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 lvl="1" marL="675720" indent="-3330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2476"/>
                </a:solidFill>
                <a:latin typeface="Tahoma"/>
                <a:ea typeface="ＭＳ Ｐゴシック"/>
              </a:rPr>
              <a:t>Continuous sounds              stop sounds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14" name="Right Arrow 3"/>
          <p:cNvSpPr/>
          <p:nvPr/>
        </p:nvSpPr>
        <p:spPr>
          <a:xfrm>
            <a:off x="4537080" y="4803840"/>
            <a:ext cx="450720" cy="3348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2f8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15" name="Right Arrow 4"/>
          <p:cNvSpPr/>
          <p:nvPr/>
        </p:nvSpPr>
        <p:spPr>
          <a:xfrm>
            <a:off x="4540320" y="5291280"/>
            <a:ext cx="449280" cy="33480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2f8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16" name="Right Arrow 5"/>
          <p:cNvSpPr/>
          <p:nvPr/>
        </p:nvSpPr>
        <p:spPr>
          <a:xfrm>
            <a:off x="4540320" y="5729400"/>
            <a:ext cx="449280" cy="33480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2f8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63160" y="-3384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Identifying Initial, Final, </a:t>
            </a:r>
            <a:br>
              <a:rPr sz="2800"/>
            </a:b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and Medial Phonemes</a:t>
            </a:r>
            <a:endParaRPr b="1" lang="en-US" sz="28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Instructional Lessons and Activitie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Let’s practice isolating the sounds we hear in words.”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Listen to this word: </a:t>
            </a: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fan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. Say the word </a:t>
            </a: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fan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. What is the initial sound you hear in </a:t>
            </a: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fan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?” </a:t>
            </a: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/f/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ay the word </a:t>
            </a: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lock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. What is the final sound you hear in </a:t>
            </a: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lock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?” </a:t>
            </a: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/k/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ay the word </a:t>
            </a: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bug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. What sound do you hear in the middle of </a:t>
            </a: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bug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?” </a:t>
            </a: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/ŭ/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09" descr="PA"/>
          <p:cNvPicPr/>
          <p:nvPr/>
        </p:nvPicPr>
        <p:blipFill>
          <a:blip r:embed="rId1"/>
          <a:stretch/>
        </p:blipFill>
        <p:spPr>
          <a:xfrm>
            <a:off x="1808280" y="1347840"/>
            <a:ext cx="5705280" cy="4813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Reading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22" name="AutoShape 94"/>
          <p:cNvSpPr/>
          <p:nvPr/>
        </p:nvSpPr>
        <p:spPr>
          <a:xfrm>
            <a:off x="2044800" y="4832280"/>
            <a:ext cx="1593720" cy="104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007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3" name="Line 102"/>
          <p:cNvSpPr/>
          <p:nvPr/>
        </p:nvSpPr>
        <p:spPr>
          <a:xfrm flipH="1">
            <a:off x="1308240" y="2281320"/>
            <a:ext cx="514080" cy="0"/>
          </a:xfrm>
          <a:prstGeom prst="line">
            <a:avLst/>
          </a:prstGeom>
          <a:ln w="19080">
            <a:solidFill>
              <a:srgbClr val="babe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4" name="Rectangle 81"/>
          <p:cNvSpPr/>
          <p:nvPr/>
        </p:nvSpPr>
        <p:spPr>
          <a:xfrm>
            <a:off x="1771560" y="1557360"/>
            <a:ext cx="286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9f9ed"/>
                </a:solidFill>
                <a:latin typeface="Tahoma"/>
              </a:rPr>
              <a:t>DECODING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5" name="Rectangle 82"/>
          <p:cNvSpPr/>
          <p:nvPr/>
        </p:nvSpPr>
        <p:spPr>
          <a:xfrm>
            <a:off x="4781520" y="1565280"/>
            <a:ext cx="2792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9f9ed"/>
                </a:solidFill>
                <a:latin typeface="Tahoma"/>
              </a:rPr>
              <a:t>COMPREHENSION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6" name="AutoShape 85"/>
          <p:cNvSpPr/>
          <p:nvPr/>
        </p:nvSpPr>
        <p:spPr>
          <a:xfrm>
            <a:off x="3929040" y="3476520"/>
            <a:ext cx="142416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9ed"/>
                </a:solidFill>
                <a:latin typeface="Tahoma"/>
              </a:rPr>
              <a:t>Fluency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7" name="AutoShape 86"/>
          <p:cNvSpPr/>
          <p:nvPr/>
        </p:nvSpPr>
        <p:spPr>
          <a:xfrm>
            <a:off x="5556240" y="2698920"/>
            <a:ext cx="1542960" cy="77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9ed"/>
                </a:solidFill>
                <a:latin typeface="Tahoma"/>
              </a:rPr>
              <a:t>Vocabulary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8" name="AutoShape 87"/>
          <p:cNvSpPr/>
          <p:nvPr/>
        </p:nvSpPr>
        <p:spPr>
          <a:xfrm>
            <a:off x="5127480" y="4843440"/>
            <a:ext cx="2117880" cy="1117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9ed"/>
                </a:solidFill>
                <a:latin typeface="Tahoma"/>
              </a:rPr>
              <a:t>Text Comprehension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29" name="Rectangle 89"/>
          <p:cNvSpPr/>
          <p:nvPr/>
        </p:nvSpPr>
        <p:spPr>
          <a:xfrm>
            <a:off x="1293840" y="1374840"/>
            <a:ext cx="522360" cy="4763880"/>
          </a:xfrm>
          <a:prstGeom prst="rect">
            <a:avLst/>
          </a:prstGeom>
          <a:solidFill>
            <a:srgbClr val="fedba0"/>
          </a:solidFill>
          <a:ln w="12600">
            <a:solidFill>
              <a:srgbClr val="babe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0" name="Rectangle 10"/>
          <p:cNvSpPr/>
          <p:nvPr/>
        </p:nvSpPr>
        <p:spPr>
          <a:xfrm rot="16200000">
            <a:off x="-313560" y="4034160"/>
            <a:ext cx="37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f2476"/>
                </a:solidFill>
                <a:latin typeface="Tahoma"/>
              </a:rPr>
              <a:t>Five Components of Reading Instruction</a:t>
            </a:r>
            <a:endParaRPr b="0" lang="en-US" sz="14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1" name="AutoShape 93"/>
          <p:cNvSpPr/>
          <p:nvPr/>
        </p:nvSpPr>
        <p:spPr>
          <a:xfrm>
            <a:off x="1793880" y="2612880"/>
            <a:ext cx="2057400" cy="1117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9f9ed"/>
                </a:solidFill>
                <a:latin typeface="Tahoma"/>
              </a:rPr>
              <a:t>Phonological Awareness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2" name="Rectangle 19"/>
          <p:cNvSpPr/>
          <p:nvPr/>
        </p:nvSpPr>
        <p:spPr>
          <a:xfrm rot="16200000">
            <a:off x="987120" y="1674720"/>
            <a:ext cx="113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2476"/>
                </a:solidFill>
                <a:latin typeface="Tahoma"/>
              </a:rPr>
              <a:t>Two Domains of Reading</a:t>
            </a:r>
            <a:endParaRPr b="0" lang="en-US" sz="10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3" name="AutoShape 99"/>
          <p:cNvSpPr/>
          <p:nvPr/>
        </p:nvSpPr>
        <p:spPr>
          <a:xfrm>
            <a:off x="2155680" y="4925880"/>
            <a:ext cx="147636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f9ed"/>
                </a:solidFill>
                <a:latin typeface="Tahoma"/>
              </a:rPr>
              <a:t>Phonics</a:t>
            </a:r>
            <a:endParaRPr b="0" lang="en-US" sz="2000" spc="-1" strike="noStrike">
              <a:solidFill>
                <a:srgbClr val="5c0071"/>
              </a:solidFill>
              <a:latin typeface="Tahoma"/>
            </a:endParaRPr>
          </a:p>
        </p:txBody>
      </p:sp>
      <p:pic>
        <p:nvPicPr>
          <p:cNvPr id="234" name="Oval 23" descr=""/>
          <p:cNvPicPr/>
          <p:nvPr/>
        </p:nvPicPr>
        <p:blipFill>
          <a:blip r:embed="rId2"/>
          <a:stretch/>
        </p:blipFill>
        <p:spPr>
          <a:xfrm>
            <a:off x="1841400" y="2395440"/>
            <a:ext cx="19494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Blending Phonemes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Instructional Lessons and Activitie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Blending sounds to make a word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Simple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Complex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8568"/>
                </a:solidFill>
                <a:latin typeface="Tahoma"/>
              </a:rPr>
              <a:t>/m/ /ĕ/ /n/ </a:t>
            </a: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2f8568"/>
                </a:solidFill>
                <a:latin typeface="Tahoma"/>
              </a:rPr>
              <a:t>men</a:t>
            </a: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)</a:t>
            </a:r>
            <a:r>
              <a:rPr b="1" lang="en-US" sz="2000" spc="-1" strike="noStrike">
                <a:solidFill>
                  <a:srgbClr val="2f8568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2f8568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2f8568"/>
                </a:solidFill>
                <a:latin typeface="Tahoma"/>
              </a:rPr>
              <a:t>/s/ /l/ /ĕ/ /d/ </a:t>
            </a: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2f8568"/>
                </a:solidFill>
                <a:latin typeface="Tahoma"/>
              </a:rPr>
              <a:t>sled</a:t>
            </a: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)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8568"/>
                </a:solidFill>
                <a:latin typeface="Tahoma"/>
              </a:rPr>
              <a:t>/s/ /l/ /ĕ/ /d/ </a:t>
            </a: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(</a:t>
            </a:r>
            <a:r>
              <a:rPr b="1" i="1" lang="en-US" sz="2000" spc="-1" strike="noStrike">
                <a:solidFill>
                  <a:srgbClr val="2f8568"/>
                </a:solidFill>
                <a:latin typeface="Tahoma"/>
              </a:rPr>
              <a:t>sled</a:t>
            </a: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)</a:t>
            </a: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2f8568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2f8568"/>
                </a:solidFill>
                <a:latin typeface="Tahoma"/>
              </a:rPr>
              <a:t>/c/ /l/ /ă/ /m/ /p/</a:t>
            </a: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 (</a:t>
            </a:r>
            <a:r>
              <a:rPr b="1" i="1" lang="en-US" sz="2000" spc="-1" strike="noStrike">
                <a:solidFill>
                  <a:srgbClr val="2f8568"/>
                </a:solidFill>
                <a:latin typeface="Tahoma"/>
              </a:rPr>
              <a:t>clamp</a:t>
            </a:r>
            <a:r>
              <a:rPr b="1" lang="en-US" sz="2000" spc="-1" strike="noStrike">
                <a:solidFill>
                  <a:srgbClr val="bf2476"/>
                </a:solidFill>
                <a:latin typeface="Tahoma"/>
              </a:rPr>
              <a:t>)</a:t>
            </a:r>
            <a:endParaRPr b="1" lang="en-US" sz="20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21" name="Right Arrow 5"/>
          <p:cNvSpPr/>
          <p:nvPr/>
        </p:nvSpPr>
        <p:spPr>
          <a:xfrm>
            <a:off x="3552840" y="2994120"/>
            <a:ext cx="944640" cy="26820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22" name="Right Arrow 7"/>
          <p:cNvSpPr/>
          <p:nvPr/>
        </p:nvSpPr>
        <p:spPr>
          <a:xfrm>
            <a:off x="3954600" y="3876840"/>
            <a:ext cx="522000" cy="2682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Segmenting Words Into Phonemes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f8568"/>
                </a:solidFill>
                <a:latin typeface="Tahoma"/>
              </a:rPr>
              <a:t>Instructional Lessons and Activities</a:t>
            </a:r>
            <a:endParaRPr b="1" lang="en-US" sz="27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How many sounds do you hear in…?” </a:t>
            </a:r>
            <a:br>
              <a:rPr sz="2700"/>
            </a:br>
            <a:r>
              <a:rPr b="1" i="1" lang="en-US" sz="2700" spc="-1" strike="noStrike">
                <a:solidFill>
                  <a:srgbClr val="2f8568"/>
                </a:solidFill>
                <a:latin typeface="Tahoma"/>
              </a:rPr>
              <a:t>make</a:t>
            </a:r>
            <a:r>
              <a:rPr b="1" lang="en-US" sz="2700" spc="-1" strike="noStrike">
                <a:solidFill>
                  <a:srgbClr val="2f8568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(three)</a:t>
            </a:r>
            <a:br>
              <a:rPr sz="2700"/>
            </a:br>
            <a:r>
              <a:rPr b="1" i="1" lang="en-US" sz="2700" spc="-1" strike="noStrike">
                <a:solidFill>
                  <a:srgbClr val="2f8568"/>
                </a:solidFill>
                <a:latin typeface="Tahoma"/>
              </a:rPr>
              <a:t>cloud</a:t>
            </a:r>
            <a:r>
              <a:rPr b="1" lang="en-US" sz="2700" spc="-1" strike="noStrike">
                <a:solidFill>
                  <a:srgbClr val="2f8568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(four)</a:t>
            </a:r>
            <a:endParaRPr b="1" lang="en-US" sz="27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Tell me the sounds you hear in…”</a:t>
            </a:r>
            <a:br>
              <a:rPr sz="2700"/>
            </a:br>
            <a:r>
              <a:rPr b="1" i="1" lang="en-US" sz="2700" spc="-1" strike="noStrike">
                <a:solidFill>
                  <a:srgbClr val="2f8568"/>
                </a:solidFill>
                <a:latin typeface="Tahoma"/>
              </a:rPr>
              <a:t>net</a:t>
            </a:r>
            <a:r>
              <a:rPr b="1" lang="en-US" sz="2700" spc="-1" strike="noStrike">
                <a:solidFill>
                  <a:srgbClr val="2f8568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(</a:t>
            </a:r>
            <a:r>
              <a:rPr b="1" lang="en-US" sz="2700" spc="-1" strike="noStrike">
                <a:solidFill>
                  <a:srgbClr val="2f8568"/>
                </a:solidFill>
                <a:latin typeface="Tahoma"/>
              </a:rPr>
              <a:t>/n/ /ĕ/ /t/</a:t>
            </a: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)  </a:t>
            </a:r>
            <a:br>
              <a:rPr sz="2700"/>
            </a:br>
            <a:r>
              <a:rPr b="1" i="1" lang="en-US" sz="2700" spc="-1" strike="noStrike">
                <a:solidFill>
                  <a:srgbClr val="2f8568"/>
                </a:solidFill>
                <a:latin typeface="Tahoma"/>
              </a:rPr>
              <a:t>snail</a:t>
            </a:r>
            <a:r>
              <a:rPr b="1" lang="en-US" sz="2700" spc="-1" strike="noStrike">
                <a:solidFill>
                  <a:srgbClr val="2f8568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(</a:t>
            </a:r>
            <a:r>
              <a:rPr b="1" lang="en-US" sz="2700" spc="-1" strike="noStrike">
                <a:solidFill>
                  <a:srgbClr val="2f8568"/>
                </a:solidFill>
                <a:latin typeface="Tahoma"/>
              </a:rPr>
              <a:t>/s/ /n/ /ā/ /l/</a:t>
            </a: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)</a:t>
            </a:r>
            <a:endParaRPr b="1" lang="en-US" sz="27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Manipulating Phonemes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Instructional Lessons and Activitie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lnSpc>
                <a:spcPts val="3798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dd</a:t>
            </a:r>
            <a:r>
              <a:rPr b="1" lang="en-US" sz="2800" spc="-1" strike="noStrike">
                <a:solidFill>
                  <a:srgbClr val="550f7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/s/ 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o the beginning of </a:t>
            </a: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pin 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= </a:t>
            </a: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spin</a:t>
            </a: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lnSpc>
                <a:spcPts val="3798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Delete </a:t>
            </a: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/t/ 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t the beginning of</a:t>
            </a:r>
            <a:r>
              <a:rPr b="1" lang="en-US" sz="2800" spc="-1" strike="noStrike">
                <a:solidFill>
                  <a:srgbClr val="537602"/>
                </a:solidFill>
                <a:latin typeface="Tahoma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trap</a:t>
            </a:r>
            <a:r>
              <a:rPr b="1" i="1" lang="en-US" sz="2800" spc="-1" strike="noStrike">
                <a:solidFill>
                  <a:srgbClr val="537602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=</a:t>
            </a:r>
            <a:r>
              <a:rPr b="1" lang="en-US" sz="2800" spc="-1" strike="noStrike">
                <a:solidFill>
                  <a:srgbClr val="537602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rap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>
              <a:lnSpc>
                <a:spcPts val="3798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ubstitute</a:t>
            </a:r>
            <a:r>
              <a:rPr b="1" lang="en-US" sz="2800" spc="-1" strike="noStrike">
                <a:solidFill>
                  <a:srgbClr val="537602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/ĭ/ 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in </a:t>
            </a: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lip</a:t>
            </a: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with </a:t>
            </a: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/ă/ 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= </a:t>
            </a:r>
            <a:r>
              <a:rPr b="1" i="1" lang="en-US" sz="2800" spc="-1" strike="noStrike">
                <a:solidFill>
                  <a:srgbClr val="2f8568"/>
                </a:solidFill>
                <a:latin typeface="Tahoma"/>
              </a:rPr>
              <a:t>lap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Manipulating Phonemes (cont.)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70120" y="1106280"/>
            <a:ext cx="745488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568"/>
                </a:solidFill>
                <a:latin typeface="Tahoma"/>
              </a:rPr>
              <a:t>Instructional Lessons and Activities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I will say a word. You tell me the initial sound in the word. Listen: </a:t>
            </a:r>
            <a:r>
              <a:rPr b="1" i="1" lang="en-US" sz="2400" spc="-1" strike="noStrike">
                <a:solidFill>
                  <a:srgbClr val="2f8568"/>
                </a:solidFill>
                <a:latin typeface="Tahoma"/>
              </a:rPr>
              <a:t>make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.” </a:t>
            </a:r>
            <a:r>
              <a:rPr b="1" lang="en-US" sz="2400" spc="-1" strike="noStrike">
                <a:solidFill>
                  <a:srgbClr val="2f8568"/>
                </a:solidFill>
                <a:latin typeface="Tahoma"/>
              </a:rPr>
              <a:t>/m/ 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“Now, change the </a:t>
            </a:r>
            <a:r>
              <a:rPr b="1" lang="en-US" sz="2400" spc="-1" strike="noStrike">
                <a:solidFill>
                  <a:srgbClr val="2f8568"/>
                </a:solidFill>
                <a:latin typeface="Tahoma"/>
              </a:rPr>
              <a:t>/m/ 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to </a:t>
            </a:r>
            <a:r>
              <a:rPr b="1" lang="en-US" sz="2400" spc="-1" strike="noStrike">
                <a:solidFill>
                  <a:srgbClr val="2f8568"/>
                </a:solidFill>
                <a:latin typeface="Tahoma"/>
              </a:rPr>
              <a:t>/l/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. Say the new word.” </a:t>
            </a:r>
            <a:r>
              <a:rPr b="1" i="1" lang="en-US" sz="2400" spc="-1" strike="noStrike">
                <a:solidFill>
                  <a:srgbClr val="2f8568"/>
                </a:solidFill>
                <a:latin typeface="Tahoma"/>
              </a:rPr>
              <a:t>lake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I will say a word. You tell me the final sound in the word. Listen: </a:t>
            </a:r>
            <a:r>
              <a:rPr b="1" i="1" lang="en-US" sz="2400" spc="-1" strike="noStrike">
                <a:solidFill>
                  <a:srgbClr val="2f8568"/>
                </a:solidFill>
                <a:latin typeface="Tahoma"/>
              </a:rPr>
              <a:t>cap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.”</a:t>
            </a:r>
            <a:r>
              <a:rPr b="1" lang="en-US" sz="2400" spc="-1" strike="noStrike">
                <a:solidFill>
                  <a:srgbClr val="2f8568"/>
                </a:solidFill>
                <a:latin typeface="Tahoma"/>
              </a:rPr>
              <a:t> /p/ 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”Now, change the </a:t>
            </a:r>
            <a:r>
              <a:rPr b="1" lang="en-US" sz="2400" spc="-1" strike="noStrike">
                <a:solidFill>
                  <a:srgbClr val="2f8568"/>
                </a:solidFill>
                <a:latin typeface="Tahoma"/>
              </a:rPr>
              <a:t>/p/ 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to </a:t>
            </a:r>
            <a:r>
              <a:rPr b="1" lang="en-US" sz="2400" spc="-1" strike="noStrike">
                <a:solidFill>
                  <a:srgbClr val="2f8568"/>
                </a:solidFill>
                <a:latin typeface="Tahoma"/>
              </a:rPr>
              <a:t>/n/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. Say the new word.” </a:t>
            </a:r>
            <a:r>
              <a:rPr b="1" i="1" lang="en-US" sz="2400" spc="-1" strike="noStrike">
                <a:solidFill>
                  <a:srgbClr val="2f8568"/>
                </a:solidFill>
                <a:latin typeface="Tahoma"/>
              </a:rPr>
              <a:t>can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I will say a word. You tell me the middle sound in the word. Listen: </a:t>
            </a:r>
            <a:r>
              <a:rPr b="1" i="1" lang="en-US" sz="2400" spc="-1" strike="noStrike">
                <a:solidFill>
                  <a:srgbClr val="2f8568"/>
                </a:solidFill>
                <a:latin typeface="Tahoma"/>
              </a:rPr>
              <a:t>lip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.” </a:t>
            </a:r>
            <a:r>
              <a:rPr b="1" lang="en-US" sz="2400" spc="-1" strike="noStrike">
                <a:solidFill>
                  <a:srgbClr val="2f8568"/>
                </a:solidFill>
                <a:latin typeface="Tahoma"/>
              </a:rPr>
              <a:t>/i/ 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“Now, change the </a:t>
            </a:r>
            <a:r>
              <a:rPr b="1" lang="en-US" sz="2400" spc="-1" strike="noStrike">
                <a:solidFill>
                  <a:srgbClr val="2f8568"/>
                </a:solidFill>
                <a:latin typeface="Tahoma"/>
              </a:rPr>
              <a:t>/i/ 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to </a:t>
            </a:r>
            <a:r>
              <a:rPr b="1" lang="en-US" sz="2400" spc="-1" strike="noStrike">
                <a:solidFill>
                  <a:srgbClr val="2f8568"/>
                </a:solidFill>
                <a:latin typeface="Tahoma"/>
              </a:rPr>
              <a:t>/a/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. Say the new word.” </a:t>
            </a:r>
            <a:r>
              <a:rPr b="1" i="1" lang="en-US" sz="2400" spc="-1" strike="noStrike">
                <a:solidFill>
                  <a:srgbClr val="2f8568"/>
                </a:solidFill>
                <a:latin typeface="Tahoma"/>
              </a:rPr>
              <a:t>lap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More Phoneme-Level Activities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26680" y="1041480"/>
            <a:ext cx="7797960" cy="55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</a:rPr>
              <a:t>Say It and Move It:</a:t>
            </a:r>
            <a:br>
              <a:rPr sz="2500"/>
            </a:br>
            <a:r>
              <a:rPr b="1" lang="en-US" sz="2500" spc="-1" strike="noStrike">
                <a:solidFill>
                  <a:srgbClr val="bf2476"/>
                </a:solidFill>
                <a:latin typeface="Tahoma"/>
              </a:rPr>
              <a:t>Use the card and counters to practice blending and segmenting phonemes.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</a:rPr>
              <a:t>Elkonin boxes: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  <a:p>
            <a:pPr lvl="1" marL="682560" indent="-3366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</a:rPr>
              <a:t>Use counters and Elkonin boxes to blend and segment phonemes of words.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  <a:p>
            <a:pPr lvl="1" marL="682560" indent="-3366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</a:rPr>
              <a:t>Take it a step further and use them to delete, add, or substitute phonemes in words.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  <a:p>
            <a:pPr lvl="1" marL="682560" indent="-3366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2476"/>
                </a:solidFill>
                <a:latin typeface="Tahoma"/>
              </a:rPr>
              <a:t>Take it another step further by using letter or grapheme tiles to connect phonological awareness to print.</a:t>
            </a:r>
            <a:endParaRPr b="1" lang="en-US" sz="25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331" name="Picture 25" descr="videooriginal.jpg"/>
          <p:cNvPicPr/>
          <p:nvPr/>
        </p:nvPicPr>
        <p:blipFill>
          <a:blip r:embed="rId1"/>
          <a:stretch/>
        </p:blipFill>
        <p:spPr>
          <a:xfrm>
            <a:off x="8427960" y="1393920"/>
            <a:ext cx="682560" cy="614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Handout.png"/>
          <p:cNvPicPr/>
          <p:nvPr/>
        </p:nvPicPr>
        <p:blipFill>
          <a:blip r:embed="rId2"/>
          <a:stretch/>
        </p:blipFill>
        <p:spPr>
          <a:xfrm>
            <a:off x="8516880" y="222264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3" name="Picture 9" descr="activity-purple.png"/>
          <p:cNvPicPr/>
          <p:nvPr/>
        </p:nvPicPr>
        <p:blipFill>
          <a:blip r:embed="rId3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Phonemic Awareness Review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70120" y="116964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Explicitly and systematically teach all phoneme-level skills, including the following: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838440" indent="-390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Blending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838440" indent="-390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Segmentation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838440" indent="-390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Manipulation (adding, deleting, and substituting sounds in words)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Use kinesthetic movements and manipulatives to make instruction more concrete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Connect sounds to letters as soon as students are ready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336" name="Picture 3" descr="activity-purple.png"/>
          <p:cNvPicPr/>
          <p:nvPr/>
        </p:nvPicPr>
        <p:blipFill>
          <a:blip r:embed="rId1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Handout.png"/>
          <p:cNvPicPr/>
          <p:nvPr/>
        </p:nvPicPr>
        <p:blipFill>
          <a:blip r:embed="rId2"/>
          <a:stretch/>
        </p:blipFill>
        <p:spPr>
          <a:xfrm>
            <a:off x="8489880" y="13986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Features of Effective Instruction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xplicit instruction with modeling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ystematic instruction with scaffolding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Multiple opportunities to practice and respond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Immediate and corrective feedback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291960" y="4800600"/>
            <a:ext cx="8547120" cy="1787400"/>
          </a:xfrm>
          <a:prstGeom prst="rect">
            <a:avLst/>
          </a:prstGeom>
          <a:solidFill>
            <a:srgbClr val="2f8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792000" y="516564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d287"/>
                </a:solidFill>
                <a:latin typeface="Tahoma"/>
              </a:rPr>
              <a:t>Pacing is emphasized throughout each of these features.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Explicit Instruction With Modeling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70120" y="1055160"/>
            <a:ext cx="7454880" cy="524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Introduce the skill to be taught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Let’s practice breaking words into their smallest parts—the sounds! This is called segmenting.”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Use clear language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Listen to the word I say. Then listen as I separate the sounds that make that word.”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Review previous knowledge and make connections to what students already know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You have already practiced blending sounds and word parts to form words. Today we will segment, or separate, words into sounds.”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dd387"/>
                </a:solidFill>
                <a:latin typeface="Hoefler Text"/>
              </a:rPr>
              <a:t>Systematic Instruction With Scaffolding</a:t>
            </a:r>
            <a:endParaRPr b="1" lang="en-US" sz="29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Begin with easier skills and progress to more difficult ones: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685800" indent="-3398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Start with two- or three-phoneme words and move to four- and five-phoneme words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685800" indent="-3398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Start with single-consonant sounds and move to consonant blends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Model each activity at least once: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685800" indent="-3398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Listen to my word, </a:t>
            </a:r>
            <a:r>
              <a:rPr b="1" i="1" lang="en-US" sz="2300" spc="-1" strike="noStrike">
                <a:solidFill>
                  <a:srgbClr val="5d8a29"/>
                </a:solidFill>
                <a:latin typeface="Tahoma"/>
              </a:rPr>
              <a:t>cup</a:t>
            </a:r>
            <a:r>
              <a:rPr b="1" i="1" lang="en-US" sz="2300" spc="-1" strike="noStrike">
                <a:solidFill>
                  <a:srgbClr val="bf2476"/>
                </a:solidFill>
                <a:latin typeface="Tahoma"/>
              </a:rPr>
              <a:t>.</a:t>
            </a: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 Now, listen and watch as I say the sounds, </a:t>
            </a:r>
            <a:r>
              <a:rPr b="1" lang="en-US" sz="2300" spc="-1" strike="noStrike">
                <a:solidFill>
                  <a:srgbClr val="5d8a29"/>
                </a:solidFill>
                <a:latin typeface="Tahoma"/>
              </a:rPr>
              <a:t>/k//ŭ//p/</a:t>
            </a: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.” </a:t>
            </a:r>
            <a:br>
              <a:rPr sz="2300"/>
            </a:b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Hold one finger up for each sound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685800" indent="-3398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Repeat sequence with the word </a:t>
            </a:r>
            <a:r>
              <a:rPr b="1" i="1" lang="en-US" sz="2300" spc="-1" strike="noStrike">
                <a:solidFill>
                  <a:srgbClr val="5d8a29"/>
                </a:solidFill>
                <a:latin typeface="Tahoma"/>
              </a:rPr>
              <a:t>mat</a:t>
            </a: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Additional Scaffolding Ideas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Use manipulatives, such as tiles, buttons, disks, felt pads, cotton balls, and a Say It Move It card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Use body movements that involve stretching to touch a different body part for each sound (head, shoulders, knees, toes)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Model kinesthetic movements, facing students within close proximity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Model using Elkonin boxes on the board or document camera using counters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If a student struggles at one level, go back to an easier level and connect to the more difficult level. 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Phonological Awareness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17560" y="1106640"/>
            <a:ext cx="4807080" cy="481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The awareness that spoken language is made up of different-sized sound parts—phrases, words, syllables, and individual sounds, or </a:t>
            </a:r>
            <a:r>
              <a:rPr b="1" lang="en-US" sz="2600" spc="-1" strike="noStrike">
                <a:solidFill>
                  <a:srgbClr val="2f8568"/>
                </a:solidFill>
                <a:latin typeface="Tahoma"/>
              </a:rPr>
              <a:t>phonemes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32640" indent="-3326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Ability to manipulate these sound parts in various ways (blending, segmenting, deleting, adding, substituting)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237" name="AutoShape 12"/>
          <p:cNvSpPr/>
          <p:nvPr/>
        </p:nvSpPr>
        <p:spPr>
          <a:xfrm flipH="1">
            <a:off x="-483480" y="836640"/>
            <a:ext cx="3830760" cy="584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103320" y="2182680"/>
            <a:ext cx="286704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486"/>
                </a:solidFill>
                <a:latin typeface="Hoefler Text"/>
              </a:rPr>
              <a:t>Phonological awareness </a:t>
            </a:r>
            <a:r>
              <a:rPr b="0" lang="en-US" sz="2800" spc="-1" strike="noStrike">
                <a:solidFill>
                  <a:srgbClr val="fdd486"/>
                </a:solidFill>
                <a:latin typeface="Hoefler Text"/>
              </a:rPr>
              <a:t>is the ability to detect and manipulate the sound structures of a spoken language.</a:t>
            </a: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2"/>
          <p:cNvSpPr/>
          <p:nvPr/>
        </p:nvSpPr>
        <p:spPr>
          <a:xfrm>
            <a:off x="291960" y="4800600"/>
            <a:ext cx="8547120" cy="1787400"/>
          </a:xfrm>
          <a:prstGeom prst="rect">
            <a:avLst/>
          </a:prstGeom>
          <a:solidFill>
            <a:srgbClr val="2f8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d387"/>
                </a:solidFill>
                <a:latin typeface="Hoefler Text"/>
              </a:rPr>
              <a:t>Multiple Opportunities to Respond </a:t>
            </a:r>
            <a:endParaRPr b="1" lang="en-US" sz="30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70120" y="1142640"/>
            <a:ext cx="7454880" cy="38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Provide opportunities for guided practice of the skill with the whole group and in small groups. 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Incorporate independent practice within whole-group and small-group instruction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When doing activities with the whole group, use a cue for students to respond in unison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f2476"/>
                </a:solidFill>
                <a:latin typeface="Tahoma"/>
              </a:rPr>
              <a:t>Have a phonological awareness center for students to participate in every week.</a:t>
            </a:r>
            <a:endParaRPr b="1" lang="en-US" sz="22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289080" y="5326200"/>
            <a:ext cx="856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ed287"/>
                </a:solidFill>
                <a:latin typeface="Tahoma"/>
              </a:rPr>
              <a:t>For phonological awareness center activities, go to:</a:t>
            </a:r>
            <a:br>
              <a:rPr sz="2200"/>
            </a:br>
            <a:r>
              <a:rPr b="1" lang="en-US" sz="2200" spc="-1" strike="noStrike">
                <a:solidFill>
                  <a:srgbClr val="fed287"/>
                </a:solidFill>
                <a:latin typeface="Tahoma"/>
              </a:rPr>
              <a:t>www.fcrr.org/FAIR_Search_Tool/FAIR_Search_Tool.aspx </a:t>
            </a:r>
            <a:endParaRPr b="0" lang="en-US" sz="22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Immediate and Corrective Feedback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Listen carefully during group responses to isolate students in need of corrective feedback.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Provide feedback for both correct and incorrect responses. 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When students respond correctly, use positive and descriptive statements or repeat the response: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lvl="1" marL="682560" indent="-3366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Great! The sounds are _______. We heard three sounds.”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lvl="1" marL="682560" indent="-3366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Right! When we break that word apart, or segment, we hear _______.”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Take notes on student progress during whole-group, small-group, or individual responses.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63160" y="-3384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Immediate and Corrective Feedback (cont.)</a:t>
            </a:r>
            <a:endParaRPr b="1" lang="en-US" sz="28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414240" y="1142640"/>
            <a:ext cx="5194440" cy="53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Let’s try it together.”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bf2476"/>
                </a:solidFill>
                <a:latin typeface="Tahoma"/>
              </a:rPr>
              <a:t>Guided practice (We do)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Watch me and listen, and then we’ll do it together.” 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bf2476"/>
                </a:solidFill>
                <a:latin typeface="Tahoma"/>
              </a:rPr>
              <a:t>Model (I do)</a:t>
            </a:r>
            <a:br>
              <a:rPr sz="2100"/>
            </a:br>
            <a:r>
              <a:rPr b="1" i="1" lang="en-US" sz="2100" spc="-1" strike="noStrike">
                <a:solidFill>
                  <a:srgbClr val="bf2476"/>
                </a:solidFill>
                <a:latin typeface="Tahoma"/>
              </a:rPr>
              <a:t>Guided practice (We do)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Let’s try it this way.” 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bf2476"/>
                </a:solidFill>
                <a:latin typeface="Tahoma"/>
              </a:rPr>
              <a:t>Step back to an easier skill.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“</a:t>
            </a:r>
            <a:r>
              <a:rPr b="1" lang="en-US" sz="2100" spc="-1" strike="noStrike">
                <a:solidFill>
                  <a:srgbClr val="bf2476"/>
                </a:solidFill>
                <a:latin typeface="Tahoma"/>
              </a:rPr>
              <a:t>Let’s try that again, but this time let’s chop the sounds on our arms instead of using our fingers.”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bf2476"/>
                </a:solidFill>
                <a:latin typeface="Tahoma"/>
              </a:rPr>
              <a:t>Use a different kinesthetic movement to see whether the movement is the problem.</a:t>
            </a:r>
            <a:endParaRPr b="1" lang="en-US" sz="21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56" name="AutoShape 12"/>
          <p:cNvSpPr/>
          <p:nvPr/>
        </p:nvSpPr>
        <p:spPr>
          <a:xfrm flipH="1">
            <a:off x="-483480" y="836640"/>
            <a:ext cx="3830760" cy="584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f24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235080" y="1960560"/>
            <a:ext cx="2997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d486"/>
                </a:solidFill>
                <a:latin typeface="Hoefler Text"/>
              </a:rPr>
              <a:t>Provide appropriate scaffolds </a:t>
            </a:r>
            <a:br>
              <a:rPr sz="3200"/>
            </a:br>
            <a:r>
              <a:rPr b="0" lang="en-US" sz="3200" spc="-1" strike="noStrike">
                <a:solidFill>
                  <a:srgbClr val="fdd486"/>
                </a:solidFill>
                <a:latin typeface="Hoefler Text"/>
              </a:rPr>
              <a:t>for corrective feedback when necessary.</a:t>
            </a:r>
            <a:endParaRPr b="0" lang="en-US" sz="32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Features of Effective Instruction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Watch for the following: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Different levels of the phonological awareness continuum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685800" indent="-3398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Explicit instruction with modeling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685800" indent="-3398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Systematic instruction with scaffolding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685800" indent="-3398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Multiple opportunities to practice and respond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685800" indent="-3398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Immediate and corrective feedback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685800" indent="-3398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Effective pacing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lvl="1" marL="685800" indent="-3398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Other effective instructional elements 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360" name="Picture 25" descr="videooriginal.jpg"/>
          <p:cNvPicPr/>
          <p:nvPr/>
        </p:nvPicPr>
        <p:blipFill>
          <a:blip r:embed="rId1"/>
          <a:stretch/>
        </p:blipFill>
        <p:spPr>
          <a:xfrm>
            <a:off x="8427960" y="712800"/>
            <a:ext cx="682560" cy="614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Handout.png"/>
          <p:cNvPicPr/>
          <p:nvPr/>
        </p:nvPicPr>
        <p:blipFill>
          <a:blip r:embed="rId2"/>
          <a:stretch/>
        </p:blipFill>
        <p:spPr>
          <a:xfrm>
            <a:off x="8516880" y="154152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Ongoing Practice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Grouping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Differentiating instruction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mbedding practice opportunitie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364" name="Picture 3" descr="Handout.png"/>
          <p:cNvPicPr/>
          <p:nvPr/>
        </p:nvPicPr>
        <p:blipFill>
          <a:blip r:embed="rId1"/>
          <a:stretch/>
        </p:blipFill>
        <p:spPr>
          <a:xfrm>
            <a:off x="8516880" y="7048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Progress Monitoring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Use district-approved assessment tools for screening, diagnosing, and progress monitoring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Determine specific goals for students prior to each lesson and prepare sticky notes for simple record keeping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Make anecdotal notes of student abilities during whole-group, small-group, partner, and individual instruction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Use a progress-monitoring chart to document student progress on sequential skills. 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367" name="Picture 3" descr="Handout.png"/>
          <p:cNvPicPr/>
          <p:nvPr/>
        </p:nvPicPr>
        <p:blipFill>
          <a:blip r:embed="rId1"/>
          <a:stretch/>
        </p:blipFill>
        <p:spPr>
          <a:xfrm>
            <a:off x="8516880" y="70488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63160" y="-3384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dd387"/>
                </a:solidFill>
                <a:latin typeface="Hoefler Text"/>
              </a:rPr>
              <a:t>Consider Diversity: English Language Learners</a:t>
            </a:r>
            <a:endParaRPr b="1" lang="en-US" sz="31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apitalize on native language ability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ontextualize tasks to promote English language comprehens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Teach unique English sound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ccept oral approximations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  <p:pic>
        <p:nvPicPr>
          <p:cNvPr id="370" name="Picture 4" descr="Handout.png"/>
          <p:cNvPicPr/>
          <p:nvPr/>
        </p:nvPicPr>
        <p:blipFill>
          <a:blip r:embed="rId1"/>
          <a:stretch/>
        </p:blipFill>
        <p:spPr>
          <a:xfrm>
            <a:off x="8489880" y="1398600"/>
            <a:ext cx="500040" cy="72216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1" name="Picture 5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63160" y="-5400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Integrating Phonemic Awareness </a:t>
            </a:r>
            <a:br>
              <a:rPr sz="2800"/>
            </a:b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With Other Reading Components</a:t>
            </a:r>
            <a:endParaRPr b="1" lang="en-US" sz="28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70120" y="1109520"/>
            <a:ext cx="7454880" cy="52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Phonics: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682560" indent="-3366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Make connections between sounds and symbols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682560" indent="-3366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Focus on spellings for the sounds practiced during phonemic awareness lessons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682560" indent="-3366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Explicitly connect phonemic awareness and phonics lessons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Fluency: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682560" indent="-3366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Work toward automaticity with skills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682560" indent="-33660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Set explicit goals related to building fluency with phonemic awareness skills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63160" y="-41760"/>
            <a:ext cx="748044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Integrating Phonemic Awareness </a:t>
            </a:r>
            <a:br>
              <a:rPr sz="2800"/>
            </a:b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With Other Reading Components (cont.)</a:t>
            </a:r>
            <a:endParaRPr b="1" lang="en-US" sz="28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Vocabulary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Explain to students that words with the same sounds may have different meanings and spellings based on context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Comprehension: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All reading components affect comprehension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Remember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honological awareness improves students’ knowledge of how spoken language is represented in print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Phonological awareness helps all students learn to read and spell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Students who develop phonemic awareness skills by first grade are more successful readers and writers in third grade and beyond than those who don’t.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dd387"/>
                </a:solidFill>
                <a:latin typeface="Hoefler Text"/>
              </a:rPr>
              <a:t>Phonological Vs. Phonemic Awareness</a:t>
            </a:r>
            <a:endParaRPr b="1" lang="en-US" sz="30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Phonological awareness follows a progression of skills, including the following: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838440" indent="-390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Simple skills like recognition of rhyme and alliteration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lvl="1" marL="838440" indent="-39024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Complex skills like the ability to identify and manipulate phonemes—phonemic awareness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Research shows that phonemic awareness skills are predictive of later reading ability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bf2476"/>
                </a:solidFill>
                <a:latin typeface="Tahoma"/>
              </a:rPr>
              <a:t>Rather than spending time on basic skills like rhyming, first-grade teachers should focus on phoneme-level instruction connected to print.</a:t>
            </a:r>
            <a:endParaRPr b="1" lang="en-US" sz="23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Remember (cont.)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Phonological awareness is an umbrella term that encompasses many skills. 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The most complex of these skills is </a:t>
            </a:r>
            <a:r>
              <a:rPr b="1" i="1" lang="en-US" sz="2600" spc="-1" strike="noStrike">
                <a:solidFill>
                  <a:srgbClr val="bf2476"/>
                </a:solidFill>
                <a:latin typeface="Tahoma"/>
              </a:rPr>
              <a:t>phonemic awareness</a:t>
            </a: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, which includes the ability to identify phonemes, segment words into phonemes, blend phonemes to make words, and manipulate the phonemes in words. 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792000" y="5165640"/>
            <a:ext cx="790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d287"/>
                </a:solidFill>
                <a:latin typeface="Tahoma"/>
              </a:rPr>
              <a:t>Developing phonemic awareness is critical to early reading success!</a:t>
            </a:r>
            <a:endParaRPr b="0" lang="en-US" sz="26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291960" y="4800600"/>
            <a:ext cx="8547120" cy="1787400"/>
          </a:xfrm>
          <a:prstGeom prst="rect">
            <a:avLst/>
          </a:prstGeom>
          <a:solidFill>
            <a:srgbClr val="2f8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382" name="Text Box 13"/>
          <p:cNvSpPr/>
          <p:nvPr/>
        </p:nvSpPr>
        <p:spPr>
          <a:xfrm>
            <a:off x="792000" y="5165640"/>
            <a:ext cx="790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d287"/>
                </a:solidFill>
                <a:latin typeface="Tahoma"/>
              </a:rPr>
              <a:t>Developing phonemic awareness is critical to early reading success!</a:t>
            </a:r>
            <a:endParaRPr b="0" lang="en-US" sz="2600" spc="-1" strike="noStrike">
              <a:solidFill>
                <a:srgbClr val="5c007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Phonemic Awareness: What It’s Not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Not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 the same as phonic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Not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 rhyming, alliteration, or other simpler skill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Not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 only identifying initial sound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Not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 a natural skill that children are born with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8568"/>
                </a:solidFill>
                <a:latin typeface="Tahoma"/>
              </a:rPr>
              <a:t>Not</a:t>
            </a:r>
            <a:r>
              <a:rPr b="1" lang="en-US" sz="2800" spc="-1" strike="noStrike">
                <a:solidFill>
                  <a:srgbClr val="bf2476"/>
                </a:solidFill>
                <a:latin typeface="Tahoma"/>
              </a:rPr>
              <a:t> exclusively for first-grade students</a:t>
            </a:r>
            <a:endParaRPr b="1" lang="en-US" sz="28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81"/>
          <p:cNvSpPr/>
          <p:nvPr/>
        </p:nvSpPr>
        <p:spPr>
          <a:xfrm>
            <a:off x="1173240" y="168120"/>
            <a:ext cx="7778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0071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What We Know From Research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Phonological awareness instruction improves students’ understanding of how the words in spoken language are represented in print. 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Phonological awareness helps all students learn to read. 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Phonemic awareness instruction should occur at the oral level prior to pairing phonemes with graphemes (letters).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  <a:p>
            <a:pPr marL="335880" indent="-3358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f2476"/>
                </a:solidFill>
                <a:latin typeface="Tahoma"/>
              </a:rPr>
              <a:t>Phonemic awareness also helps students learn to spell.</a:t>
            </a:r>
            <a:endParaRPr b="1" lang="en-US" sz="26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Why Should We Teach Phonemic Awareness?</a:t>
            </a:r>
            <a:endParaRPr b="1" lang="en-US" sz="28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70120" y="125856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To lay a strong foundation:</a:t>
            </a:r>
            <a:br>
              <a:rPr sz="2400"/>
            </a:b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Phonemic awareness is a strong predictor of future reading success. Instruction in phonemic awareness in prekindergarten and kindergarten helps to ensure reading success in first grade and beyond.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To prevent reading difficulties:</a:t>
            </a:r>
            <a:br>
              <a:rPr sz="2400"/>
            </a:br>
            <a:r>
              <a:rPr b="1" lang="en-US" sz="2400" spc="-1" strike="noStrike">
                <a:solidFill>
                  <a:srgbClr val="bf2476"/>
                </a:solidFill>
                <a:latin typeface="Tahoma"/>
              </a:rPr>
              <a:t>A lack of phonemic awareness is a leading cause of reading disability. Without phonemic awareness, students are unable to “break the code.”</a:t>
            </a:r>
            <a:endParaRPr b="1" lang="en-US" sz="24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387"/>
                </a:solidFill>
                <a:latin typeface="Hoefler Text"/>
              </a:rPr>
              <a:t>ELAR TEKS: Reading Strand</a:t>
            </a:r>
            <a:endParaRPr b="1" lang="en-US" sz="3200" spc="-1" strike="noStrike">
              <a:solidFill>
                <a:srgbClr val="fdd387"/>
              </a:solidFill>
              <a:latin typeface="Hoefler Text"/>
            </a:endParaRPr>
          </a:p>
        </p:txBody>
      </p:sp>
      <p:pic>
        <p:nvPicPr>
          <p:cNvPr id="249" name="Picture 5" descr="TEKS_TRA_outline.png"/>
          <p:cNvPicPr/>
          <p:nvPr/>
        </p:nvPicPr>
        <p:blipFill>
          <a:blip r:embed="rId1"/>
          <a:stretch/>
        </p:blipFill>
        <p:spPr>
          <a:xfrm>
            <a:off x="582480" y="949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activity-purple.png"/>
          <p:cNvPicPr/>
          <p:nvPr/>
        </p:nvPicPr>
        <p:blipFill>
          <a:blip r:embed="rId2"/>
          <a:stretch/>
        </p:blipFill>
        <p:spPr>
          <a:xfrm>
            <a:off x="8229600" y="378000"/>
            <a:ext cx="1066680" cy="963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NotebookIcon.png"/>
          <p:cNvPicPr/>
          <p:nvPr/>
        </p:nvPicPr>
        <p:blipFill>
          <a:blip r:embed="rId3"/>
          <a:stretch/>
        </p:blipFill>
        <p:spPr>
          <a:xfrm>
            <a:off x="8442360" y="1341360"/>
            <a:ext cx="793800" cy="938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TEKS_ill_reading_strand-1.png"/>
          <p:cNvPicPr/>
          <p:nvPr/>
        </p:nvPicPr>
        <p:blipFill>
          <a:blip r:embed="rId4"/>
          <a:stretch/>
        </p:blipFill>
        <p:spPr>
          <a:xfrm>
            <a:off x="762120" y="2373480"/>
            <a:ext cx="7819920" cy="3760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ring.png"/>
          <p:cNvPicPr/>
          <p:nvPr/>
        </p:nvPicPr>
        <p:blipFill>
          <a:blip r:embed="rId5"/>
          <a:stretch/>
        </p:blipFill>
        <p:spPr>
          <a:xfrm>
            <a:off x="620640" y="3790800"/>
            <a:ext cx="1746360" cy="9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3160" y="0"/>
            <a:ext cx="74804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d387"/>
                </a:solidFill>
                <a:latin typeface="Hoefler Text"/>
              </a:rPr>
              <a:t>When Is Phonological Awareness Taught?</a:t>
            </a:r>
            <a:endParaRPr b="1" lang="en-US" sz="2800" spc="-1" strike="noStrike">
              <a:solidFill>
                <a:srgbClr val="fdd387"/>
              </a:solidFill>
              <a:latin typeface="Hoefler Tex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70120" y="1171080"/>
            <a:ext cx="745488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In prekindergarten, kindergarten, and first grade for all students</a:t>
            </a:r>
            <a:endParaRPr b="1" lang="en-US" sz="27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In second and third grades for some students (as needed for students struggling with understanding and using this knowledge)</a:t>
            </a:r>
            <a:endParaRPr b="1" lang="en-US" sz="27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Daily for 10–15 minutes through first grade and as needed in other grades</a:t>
            </a:r>
            <a:endParaRPr b="1" lang="en-US" sz="2700" spc="-1" strike="noStrike">
              <a:solidFill>
                <a:srgbClr val="bf2476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bf247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f2476"/>
                </a:solidFill>
                <a:latin typeface="Tahoma"/>
              </a:rPr>
              <a:t>During brief instructional moments such as transitions and waiting periods</a:t>
            </a:r>
            <a:endParaRPr b="1" lang="en-US" sz="2700" spc="-1" strike="noStrike">
              <a:solidFill>
                <a:srgbClr val="bf247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7:16:06Z</dcterms:created>
  <dc:creator>Elana Wakeman</dc:creator>
  <dc:description/>
  <dc:language>en-US</dc:language>
  <cp:lastModifiedBy>Matthew Slater</cp:lastModifiedBy>
  <cp:lastPrinted>2009-10-06T16:35:00Z</cp:lastPrinted>
  <dcterms:modified xsi:type="dcterms:W3CDTF">2016-06-21T22:55:26Z</dcterms:modified>
  <cp:revision>399</cp:revision>
  <dc:subject/>
  <dc:title>Overview of the Kindergarten Teacher Reading Academy (KTRA)</dc:title>
</cp:coreProperties>
</file>