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295280" y="1600200"/>
            <a:ext cx="5028840" cy="3657240"/>
            <a:chOff x="1295280" y="1600200"/>
            <a:chExt cx="5028840" cy="3657240"/>
          </a:xfrm>
        </p:grpSpPr>
        <p:sp>
          <p:nvSpPr>
            <p:cNvPr id="215" name="Rectangle 5"/>
            <p:cNvSpPr/>
            <p:nvPr/>
          </p:nvSpPr>
          <p:spPr>
            <a:xfrm>
              <a:off x="1415880" y="1721880"/>
              <a:ext cx="4908240" cy="353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295280" y="1600200"/>
              <a:ext cx="4908240" cy="35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240" y="1676520"/>
            <a:ext cx="4876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move the slide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355760" y="5734080"/>
            <a:ext cx="435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C12-CC79-4A72-946B-05F5CAE5DF2C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ADEA-5CB1-4C20-A6E4-8CE6C70A2089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5CC7-C4FF-4A22-882D-3CE53C91C649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5ED0-4079-409E-AC44-EBC6EA9D75C4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AED4-0E8D-41A6-B1AC-CC54C3624EAE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Book Antiqu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0EED-077F-4FA6-B7A1-3147E031EDE1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BFE2-FBDA-4707-BD5D-547E08866F2C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10E-2DBB-4341-A719-5C13EDD2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E7E-3464-4C9C-87BF-7ABE2811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C05-BCB1-4C89-9550-35438095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0B4-E935-4FD9-942F-FCACFE0E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03E-6A14-4106-97D9-A484AF7C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CEC-6CE3-4DAC-B500-1C9400E1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804-5C59-4A24-9046-2262029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FA9-5A98-40FB-9D23-E6A60DA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ED2-088A-4EA0-B490-3F398C4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4FF-B37B-4185-BBF6-D854BB9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2C9-DAFB-43E8-8BCA-B47907F4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59D-BB4E-42DB-B120-3812BF47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F111-620A-4DFD-B11C-F9E99047A9A5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-64800" y="661176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utting It All Together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227A-4DB1-4B3B-A945-4598E9BD20BA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2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3" name="Text Box 111"/>
          <p:cNvSpPr/>
          <p:nvPr/>
        </p:nvSpPr>
        <p:spPr>
          <a:xfrm>
            <a:off x="-64800" y="661176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utting It All Together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44" name="Picture 6" descr="1M14_titl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6482-04DB-474E-88B7-2C9E5E994947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4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5" name="Text Box 111"/>
          <p:cNvSpPr/>
          <p:nvPr/>
        </p:nvSpPr>
        <p:spPr>
          <a:xfrm>
            <a:off x="-64800" y="661176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utting It All Together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86" name="Picture 6" descr="0_thrulin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F8AE-ED92-4866-9CC0-B59DB0F6B8D4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8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9" name="Text Box 111"/>
          <p:cNvSpPr/>
          <p:nvPr/>
        </p:nvSpPr>
        <p:spPr>
          <a:xfrm>
            <a:off x="35280" y="6611760"/>
            <a:ext cx="25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KTLA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66FC-C6C7-40A6-873B-4BC9AE17CCCD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29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0" name="Text Box 111"/>
          <p:cNvSpPr/>
          <p:nvPr/>
        </p:nvSpPr>
        <p:spPr>
          <a:xfrm>
            <a:off x="-64800" y="661176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utting It All Together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D0C7-26FB-4E88-AA21-7C99AFF1AD26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0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1" name="Text Box 111"/>
          <p:cNvSpPr/>
          <p:nvPr/>
        </p:nvSpPr>
        <p:spPr>
          <a:xfrm>
            <a:off x="-64800" y="661176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utting It All Together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F6BE-B4C6-4727-933B-0C033D929C53}" type="slidenum"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63160" y="-4176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Plan for Differentiated Instruction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50" name="Picture 7" descr="Handout.png"/>
          <p:cNvPicPr/>
          <p:nvPr/>
        </p:nvPicPr>
        <p:blipFill>
          <a:blip r:embed="rId1"/>
          <a:stretch/>
        </p:blipFill>
        <p:spPr>
          <a:xfrm>
            <a:off x="852012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1" name="Picture 4" descr="HO4_Page1.png"/>
          <p:cNvPicPr/>
          <p:nvPr/>
        </p:nvPicPr>
        <p:blipFill>
          <a:blip r:embed="rId2"/>
          <a:srcRect l="7213" t="10663" r="7170" b="10668"/>
          <a:stretch/>
        </p:blipFill>
        <p:spPr>
          <a:xfrm>
            <a:off x="787320" y="1015920"/>
            <a:ext cx="7599600" cy="5394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63160" y="-4176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Modify Lesson in Teacher’s Edition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r example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ark: pronunciatio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liza: </a:t>
            </a:r>
            <a:r>
              <a:rPr b="1" i="1" lang="en-US" sz="2800" spc="-1" strike="noStrike">
                <a:solidFill>
                  <a:srgbClr val="bf2476"/>
                </a:solidFill>
                <a:latin typeface="Tahoma"/>
              </a:rPr>
              <a:t>timid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 – </a:t>
            </a:r>
            <a:r>
              <a:rPr b="1" i="1" lang="en-US" sz="2800" spc="-1" strike="noStrike">
                <a:solidFill>
                  <a:srgbClr val="bf2476"/>
                </a:solidFill>
                <a:latin typeface="Tahoma"/>
              </a:rPr>
              <a:t>tímido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54" name="Picture 5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Partner Work Time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-425160">
              <a:spcBef>
                <a:spcPts val="1199"/>
              </a:spcBef>
              <a:buClr>
                <a:srgbClr val="bf247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view your not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bf247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onsider your challenging studen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bf247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hoose a lesson in your teacher’s edi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bf247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view the directions and questions (Handout 2)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bf247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lan for differentiation (Handout 3)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bf247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odify a lesson in your teacher’s edi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57" name="Picture 5" descr="Handout.png"/>
          <p:cNvPicPr/>
          <p:nvPr/>
        </p:nvPicPr>
        <p:blipFill>
          <a:blip r:embed="rId1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8" name="Picture 6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Snowball Fight!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rite your most significant “ah-ha” on a piece of paper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ad up the paper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Join the circl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row your wadded paper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ick up a paper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ad the comment to the group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The Challenge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21" name="AutoShape 24"/>
          <p:cNvSpPr/>
          <p:nvPr/>
        </p:nvSpPr>
        <p:spPr>
          <a:xfrm>
            <a:off x="646200" y="1839960"/>
            <a:ext cx="7772400" cy="1679400"/>
          </a:xfrm>
          <a:prstGeom prst="roundRect">
            <a:avLst>
              <a:gd name="adj" fmla="val 16667"/>
            </a:avLst>
          </a:prstGeom>
          <a:solidFill>
            <a:srgbClr val="2f8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049400" y="1954080"/>
            <a:ext cx="720720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“</a:t>
            </a:r>
            <a:r>
              <a:rPr b="1" lang="en-US" sz="2800" spc="-1" strike="noStrike">
                <a:solidFill>
                  <a:srgbClr val="fdd486"/>
                </a:solidFill>
                <a:latin typeface="Hoefler Text"/>
                <a:ea typeface="Hoefler Text"/>
              </a:rPr>
              <a:t>Teaching reading really is rocket science.”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— </a:t>
            </a:r>
            <a:r>
              <a:rPr b="0" lang="fi-FI" sz="1800" spc="-1" strike="noStrike">
                <a:solidFill>
                  <a:srgbClr val="fdd486"/>
                </a:solidFill>
                <a:latin typeface="Hoefler Text"/>
                <a:ea typeface="Hoefler Text"/>
              </a:rPr>
              <a:t>Moats, 1999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Question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622320" y="1249200"/>
            <a:ext cx="4933800" cy="51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fit it all in?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meet the needs of each student?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progress monitor and teach?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keep all students engaged in appropriate activities?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provide more intensive support?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accelerate for some students and slow down for others?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 flipH="1">
            <a:off x="-483480" y="836640"/>
            <a:ext cx="3830760" cy="584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39560" y="3218040"/>
            <a:ext cx="2789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486"/>
                </a:solidFill>
                <a:latin typeface="Hoefler Text"/>
              </a:rPr>
              <a:t>How do I…</a:t>
            </a:r>
            <a:endParaRPr b="0" lang="en-US" sz="36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27" name="Picture 5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Objective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Make connections to the content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Formulate a system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Use your teacher’s edition as one tool and supplement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Modify instruction as needed to make it more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27840" indent="-315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intense, 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27840" indent="-315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explicit, 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27840" indent="-315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systematic, and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27840" indent="-315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inclusive of student practice opportunities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Weekly Literacy Schedule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view Handout 1 with your partner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xamine your teacher’s edi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hat are the similarities and differences?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32" name="Picture 6" descr="Handout.png"/>
          <p:cNvPicPr/>
          <p:nvPr/>
        </p:nvPicPr>
        <p:blipFill>
          <a:blip r:embed="rId1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3" name="Picture 7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Putting It Together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lan to differentiate instruc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ntegrate the features of effective instruc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lan to cover the five components of research-based reading instruc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dd writing instruc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Review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view Carry It Through sheet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Highlight the following: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03160" indent="-457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hat you want to remember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03160" indent="-457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hat you want to continue to do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view notes on the following: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03160" indent="-457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Differentiating instructio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03160" indent="-457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oviding scaffold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38" name="Picture 6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hoose Lesson in Teacher’s Edition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414600" y="1258560"/>
            <a:ext cx="49104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What can you use from your teacher’s edition?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12120" indent="-3121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What choices should you make?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778680" indent="-362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Alternative ways for students to lear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778680" indent="-362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Additional ways students can demonstrate what they have learned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1" name="AutoShape 12"/>
          <p:cNvSpPr/>
          <p:nvPr/>
        </p:nvSpPr>
        <p:spPr>
          <a:xfrm flipH="1">
            <a:off x="-483480" y="836640"/>
            <a:ext cx="3830760" cy="584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439560" y="2614680"/>
            <a:ext cx="2789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486"/>
                </a:solidFill>
                <a:latin typeface="Hoefler Text"/>
              </a:rPr>
              <a:t>Based on what you know…</a:t>
            </a:r>
            <a:endParaRPr b="0" lang="en-US" sz="36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43" name="Picture 8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Review Directions and Question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Discuss the questions on Handout 2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46" name="Picture 7" descr="Handout.png"/>
          <p:cNvPicPr/>
          <p:nvPr/>
        </p:nvPicPr>
        <p:blipFill>
          <a:blip r:embed="rId1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7" name="Picture 8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16:06Z</dcterms:created>
  <dc:creator>Elana Wakeman</dc:creator>
  <dc:description/>
  <dc:language>en-US</dc:language>
  <cp:lastModifiedBy>Matthew Slater</cp:lastModifiedBy>
  <cp:lastPrinted>2009-10-06T16:35:00Z</cp:lastPrinted>
  <dcterms:modified xsi:type="dcterms:W3CDTF">2016-07-01T20:31:59Z</dcterms:modified>
  <cp:revision>395</cp:revision>
  <dc:subject/>
  <dc:title>Overview of the Kindergarten Teacher Reading Academy (KTRA)</dc:title>
</cp:coreProperties>
</file>