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0071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531800" y="1676520"/>
            <a:ext cx="4484880" cy="3362040"/>
          </a:xfrm>
          <a:prstGeom prst="rect">
            <a:avLst/>
          </a:prstGeom>
          <a:ln w="0">
            <a:noFill/>
          </a:ln>
        </p:spPr>
      </p:sp>
      <p:sp>
        <p:nvSpPr>
          <p:cNvPr id="287" name="Rectangle 7"/>
          <p:cNvSpPr/>
          <p:nvPr/>
        </p:nvSpPr>
        <p:spPr>
          <a:xfrm>
            <a:off x="6629400" y="88390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459-01ED-4364-B2FB-73C31AD9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B50-5EE3-41AC-8921-FB021FC6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11B-F2CC-44D3-A8E0-EE50078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FE6-7F38-4D65-B776-B8073F5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E05-CEEB-4A0E-8D9F-8513C81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37E-EC29-422B-8B2A-FB63566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C88-4CC8-4FC8-A529-1404E30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159-0DAA-42BA-8FAE-7043BDE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C8A-5FF5-418B-9170-1A09CBE3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DFF-82E6-413B-ABEF-451D9A2A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EDA-AA5C-4577-99EB-5569020C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170-5F1D-40C0-8494-B2830976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A5B1-AE9C-4591-8D04-C8A7BE44DB22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32200" y="66117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Writ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831-DDE8-4F49-9040-894417AA6839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32200" y="66117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Writ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12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39DD-2F8D-44A8-B9D8-C4A073E525F4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32200" y="66117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Writ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FC8-A4AA-4CC6-969A-2B7EA925EDB3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B0D0-46E4-4581-84B9-97E3F760EA17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32200" y="66117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Writ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BD3-BAE5-415F-B655-F2A2EB7DCBFB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32200" y="66117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Writ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BCC-B63B-40AF-BBC6-44F38626B51B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Writing for a Variety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of Purposes and Audience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odel planning strategie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elp students generate topics of interest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elp students identify a purpose and match it to form and audience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Allow students to choose writing topic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elp students decide which writings to share and/or publish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Let students decide how to publish their writing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8" name="Picture 5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3160" y="-3636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Teaching the Writing Process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Within Specific Genre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amine a lesson template for teaching the writing process across genr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ew sample lessons across various genr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Note the use of the “I do,” “We do,” “You do” framewor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lan your own lesson using this framework and your own mentor tex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61" name="Picture 3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2" name="Picture 4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reating a Writing Community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Read mentor texts to hook students into listening for what effective writers do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Write in front of your students and share your writing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Show students the importance of writing in your daily life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Weave writing into lessons throughout the day and across content areas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Encourage students to collaborate with one another as writers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65" name="Picture 3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reating a Writing Community (cont.)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n addition to modeling thinking within the writing process, model motivational aspects of writing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ake mistakes in front of your students and show them how you learn from mistake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Give students writing choice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elebrate and share student successe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rovide positive feedback in one-on-one conferences with student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ublish students’ writing both in your class and in the wider community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68" name="Picture 3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Scaffolding Writ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caffold writing instruction to meet each student’s needs during small-group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tensive writing scaffolding may include the following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re modeling (“I do”)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re guided practice (“We do”)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 different type of graphic organizer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 sentence or writing fram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71" name="Picture 3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andout.png"/>
          <p:cNvPicPr/>
          <p:nvPr/>
        </p:nvPicPr>
        <p:blipFill>
          <a:blip r:embed="rId2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Monitoring Writing Progres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ollect students’ written work across the year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response guides, checklists, rubrics, and anecdotal notes to assess students’ writing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onference with students regularly to discuss specific writing elements and skill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Keep this advice in mind when providing feedback: “Teachers should analyze rather than criticize…Error marks the place where education begins” (Rose, 1989)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arget specific concepts as you plan instruction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75" name="Picture 3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3160" y="-3852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onsider Diversity: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nglish Language Learner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plicitly teach, model, and scaffold spelling and writing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reate a print-rich environmen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ngage ELLs in meaningful and carefully planned writing activiti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nsure that ELLs work within a sense of communit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et students talk with a partner before writing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486"/>
                </a:solidFill>
                <a:latin typeface="Hoefler Text"/>
              </a:rPr>
              <a:t>The Importance of Writing Instruction</a:t>
            </a:r>
            <a:endParaRPr b="1" lang="en-US" sz="30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646200" y="1566720"/>
            <a:ext cx="7772400" cy="4021200"/>
          </a:xfrm>
          <a:prstGeom prst="roundRect">
            <a:avLst>
              <a:gd name="adj" fmla="val 5574"/>
            </a:avLst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855720" y="1662120"/>
            <a:ext cx="74008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“</a:t>
            </a:r>
            <a:r>
              <a:rPr b="1" lang="en-US" sz="2600" spc="-1" strike="noStrike">
                <a:solidFill>
                  <a:srgbClr val="fdd486"/>
                </a:solidFill>
                <a:latin typeface="Hoefler Text"/>
                <a:ea typeface="Hoefler Text"/>
              </a:rPr>
              <a:t>In our increasingly technology-mediated society, we can no longer afford to consider writing a skill for the privileged few. Writing is one of the primary ways that we persuade and inform, both socially and professionally…The ability to communicate through [various] media has become a gatekeeper for full participation in economic and social life.”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— </a:t>
            </a: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Graham, 2013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81" name="Picture 4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reviewing Quick-Writ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flect on your current writing instructional practic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Quickly write your ideas that relate to teaching writing in each of the writing instructional areas on Handout 1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nclude the quick-write with two sentences that summarize your thoughts about teaching writing in first grad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22" name="Picture 3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3" name="Picture 4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hat We Know From Research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70120" y="1168560"/>
            <a:ext cx="7454880" cy="48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Provide daily opportunities for students to write.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Explicitly teach students handwriting, spelling, and syntax skills.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Explicitly teach students the writing process.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Model and have students practice writing strategies for different purposes and audiences.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Create a community of writers in your classroom.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26" name="Picture 3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andout.png"/>
          <p:cNvPicPr/>
          <p:nvPr/>
        </p:nvPicPr>
        <p:blipFill>
          <a:blip r:embed="rId2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3" descr="TEKS_ill_reading_strand-1.png"/>
          <p:cNvPicPr/>
          <p:nvPr/>
        </p:nvPicPr>
        <p:blipFill>
          <a:blip r:embed="rId1"/>
          <a:stretch/>
        </p:blipFill>
        <p:spPr>
          <a:xfrm>
            <a:off x="762120" y="2373480"/>
            <a:ext cx="7819920" cy="3760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LAR TEKS: Reading Strand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pic>
        <p:nvPicPr>
          <p:cNvPr id="230" name="Picture 5" descr="TEKS_TRA_outline.png"/>
          <p:cNvPicPr/>
          <p:nvPr/>
        </p:nvPicPr>
        <p:blipFill>
          <a:blip r:embed="rId2"/>
          <a:stretch/>
        </p:blipFill>
        <p:spPr>
          <a:xfrm>
            <a:off x="345960" y="906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ring.png"/>
          <p:cNvPicPr/>
          <p:nvPr/>
        </p:nvPicPr>
        <p:blipFill>
          <a:blip r:embed="rId3"/>
          <a:stretch/>
        </p:blipFill>
        <p:spPr>
          <a:xfrm>
            <a:off x="746280" y="3014640"/>
            <a:ext cx="151416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TEKS_ill_writing.gif"/>
          <p:cNvPicPr/>
          <p:nvPr/>
        </p:nvPicPr>
        <p:blipFill>
          <a:blip r:embed="rId1"/>
          <a:stretch/>
        </p:blipFill>
        <p:spPr>
          <a:xfrm>
            <a:off x="1839960" y="1563840"/>
            <a:ext cx="5481720" cy="1298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LAR TEKS: Oral and Written Conventions and Writing Strand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pic>
        <p:nvPicPr>
          <p:cNvPr id="234" name="Picture 5" descr="TEKS_TRA_outline.png"/>
          <p:cNvPicPr/>
          <p:nvPr/>
        </p:nvPicPr>
        <p:blipFill>
          <a:blip r:embed="rId2"/>
          <a:stretch/>
        </p:blipFill>
        <p:spPr>
          <a:xfrm>
            <a:off x="345960" y="906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ring.png"/>
          <p:cNvPicPr/>
          <p:nvPr/>
        </p:nvPicPr>
        <p:blipFill>
          <a:blip r:embed="rId3"/>
          <a:stretch/>
        </p:blipFill>
        <p:spPr>
          <a:xfrm>
            <a:off x="3530520" y="1407960"/>
            <a:ext cx="2089080" cy="140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activity-purple.png"/>
          <p:cNvPicPr/>
          <p:nvPr/>
        </p:nvPicPr>
        <p:blipFill>
          <a:blip r:embed="rId4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NotebookIcon.png"/>
          <p:cNvPicPr/>
          <p:nvPr/>
        </p:nvPicPr>
        <p:blipFill>
          <a:blip r:embed="rId5"/>
          <a:stretch/>
        </p:blipFill>
        <p:spPr>
          <a:xfrm>
            <a:off x="8442360" y="1341360"/>
            <a:ext cx="793800" cy="938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TEKS_ill_writing_strand.png"/>
          <p:cNvPicPr/>
          <p:nvPr/>
        </p:nvPicPr>
        <p:blipFill>
          <a:blip r:embed="rId6"/>
          <a:stretch/>
        </p:blipFill>
        <p:spPr>
          <a:xfrm>
            <a:off x="517680" y="3510000"/>
            <a:ext cx="8056440" cy="836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ing.png"/>
          <p:cNvPicPr/>
          <p:nvPr/>
        </p:nvPicPr>
        <p:blipFill>
          <a:blip r:embed="rId7"/>
          <a:stretch/>
        </p:blipFill>
        <p:spPr>
          <a:xfrm>
            <a:off x="401760" y="3276720"/>
            <a:ext cx="1807920" cy="121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Allocating Time to Writ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How much time does research indicate should be spent on daily writing instruction and practice in first grade?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663480" y="3643200"/>
            <a:ext cx="7772400" cy="1092240"/>
            <a:chOff x="663480" y="3643200"/>
            <a:chExt cx="7772400" cy="1092240"/>
          </a:xfrm>
        </p:grpSpPr>
        <p:sp>
          <p:nvSpPr>
            <p:cNvPr id="243" name="AutoShape 24"/>
            <p:cNvSpPr/>
            <p:nvPr/>
          </p:nvSpPr>
          <p:spPr>
            <a:xfrm>
              <a:off x="663480" y="3643200"/>
              <a:ext cx="7772400" cy="1092240"/>
            </a:xfrm>
            <a:prstGeom prst="roundRect">
              <a:avLst>
                <a:gd name="adj" fmla="val 16667"/>
              </a:avLst>
            </a:prstGeom>
            <a:solidFill>
              <a:srgbClr val="2f8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688680" y="3757320"/>
              <a:ext cx="774720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dd486"/>
                  </a:solidFill>
                  <a:latin typeface="Hoefler Text"/>
                  <a:ea typeface="Hoefler Text"/>
                </a:rPr>
                <a:t>A minimum of one hour</a:t>
              </a:r>
              <a:endParaRPr b="0" lang="en-US" sz="40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eaching Handwrit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Show students how to hold a pencil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odel efficient and legible letter formation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vide multiple opportunities for students to practice effective letter formation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scaffolds, such as letters with numbered arrows showing the order and direction of strok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ave students practice writing letters from memory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vide handwriting fluency practice to build students’ automaticity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actice handwriting in short session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7" name="Picture 4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Handout.png"/>
          <p:cNvPicPr/>
          <p:nvPr/>
        </p:nvPicPr>
        <p:blipFill>
          <a:blip r:embed="rId2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eaching the Writing Proces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lann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raft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vising for conten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diting for mechanic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ublishing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1" name="Picture 5" descr="arrowcircle.png"/>
          <p:cNvPicPr/>
          <p:nvPr/>
        </p:nvPicPr>
        <p:blipFill>
          <a:blip r:embed="rId1"/>
          <a:stretch/>
        </p:blipFill>
        <p:spPr>
          <a:xfrm>
            <a:off x="5307120" y="2987640"/>
            <a:ext cx="3394080" cy="3355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Handout.png"/>
          <p:cNvPicPr/>
          <p:nvPr/>
        </p:nvPicPr>
        <p:blipFill>
          <a:blip r:embed="rId2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63160" y="-3636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xplicit Instruction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in the Writing Proces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I do: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lvl="1" marL="812880" indent="-378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Read aloud mentor texts to model specific writing component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lvl="1" marL="812880" indent="-378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think-alouds and write-alouds to show students the writing proces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We do: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lvl="1" marL="812880" indent="-378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ave students help you through shared writing activiti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lvl="1" marL="812880" indent="-3783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Support young writers through a gradual-release model of instruction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You do:</a:t>
            </a:r>
            <a:br>
              <a:rPr sz="2200"/>
            </a:b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Students try out what they’ve learned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5" name="Picture 3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23T23:44:05Z</dcterms:modified>
  <cp:revision>365</cp:revision>
  <dc:subject/>
  <dc:title>Overview of the Kindergarten Teacher Reading Academy (KTRA)</dc:title>
</cp:coreProperties>
</file>